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9C3F-61E9-4EB3-A20B-13498C2742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47DD-C832-46A9-826A-3A7CBFF56D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814F3-9929-4760-961F-6C0B1DB97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86439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8760" y="3621960"/>
            <a:ext cx="86439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6074C-FC14-4C09-9E65-8BFB93614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05228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8760" y="362196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62196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5921-86AE-4074-9AA3-4BCE0705C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27831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1600" y="1052280"/>
            <a:ext cx="27831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080" y="1052280"/>
            <a:ext cx="27831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8760" y="3621960"/>
            <a:ext cx="27831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1600" y="3621960"/>
            <a:ext cx="27831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080" y="3621960"/>
            <a:ext cx="27831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A91A-F57D-4D88-9E90-6F9F2E738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18470-3A6F-4EFA-82E7-AFF532E7DA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8760" y="1052280"/>
            <a:ext cx="8643960" cy="49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ACD0E-D127-4ABB-B8E0-F172B348AA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864396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B74A3-53ED-4740-B59E-CB4A99D0AB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421812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052280"/>
            <a:ext cx="421812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B8408-D7E5-46AA-8EDB-C23A0B2239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F0A51-EFC6-4102-B1EE-A028EAF839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8760" y="303120"/>
            <a:ext cx="8643960" cy="22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3947C-B0BE-438F-93DB-32F7BC7782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052280"/>
            <a:ext cx="421812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8760" y="362196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9AD43-3AF8-49E0-B582-90FE0ADCD1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8760" y="1052280"/>
            <a:ext cx="8643960" cy="49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8947A-7C74-4463-898C-E3B73EB031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421812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05228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200" y="362196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87776-95F1-46D6-A351-97A5FBAEEF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05228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8760" y="3621960"/>
            <a:ext cx="86439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D1C8D-8829-4C5E-B64A-C506B23F3E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86439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8760" y="3621960"/>
            <a:ext cx="86439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999A4-D860-4775-8853-42751D9FC7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05228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8760" y="362196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200" y="362196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5F94D-564B-4551-9416-788F03762B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27831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1600" y="1052280"/>
            <a:ext cx="27831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080" y="1052280"/>
            <a:ext cx="27831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8760" y="3621960"/>
            <a:ext cx="27831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1600" y="3621960"/>
            <a:ext cx="27831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4080" y="3621960"/>
            <a:ext cx="27831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51E34-7BE6-42BE-A6E7-7B672212B0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864396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A44E-A240-4D75-8B28-CE7B55911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421812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052280"/>
            <a:ext cx="421812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CC5FE-8B16-4EFF-BD00-58092F9CA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D0140-BF62-4AB6-A765-5AF9C8889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8760" y="303120"/>
            <a:ext cx="8643960" cy="22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8634F-1269-43E8-B216-52B8D8A6A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052280"/>
            <a:ext cx="421812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8760" y="362196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1F245-2871-4D60-8375-0BDA3794B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421812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05228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62196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4CE7-2937-4147-BC0D-310F2A5F2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05228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8760" y="3621960"/>
            <a:ext cx="86439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07258-77DC-4188-8F9C-8AA910078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6107040"/>
            <a:ext cx="9144000" cy="71640"/>
          </a:xfrm>
          <a:prstGeom prst="rect">
            <a:avLst/>
          </a:prstGeom>
          <a:gradFill rotWithShape="0">
            <a:gsLst>
              <a:gs pos="0">
                <a:srgbClr val="cc3333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8760" y="303120"/>
            <a:ext cx="8643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48760" y="1052280"/>
            <a:ext cx="864396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2"/>
          <a:stretch/>
        </p:blipFill>
        <p:spPr>
          <a:xfrm>
            <a:off x="6357960" y="6299280"/>
            <a:ext cx="2519280" cy="3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30240" y="6356520"/>
            <a:ext cx="544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4F6C-37AF-4962-BC65-617EF07E2ECF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6107040"/>
            <a:ext cx="9144000" cy="71640"/>
          </a:xfrm>
          <a:prstGeom prst="rect">
            <a:avLst/>
          </a:prstGeom>
          <a:gradFill rotWithShape="0">
            <a:gsLst>
              <a:gs pos="0">
                <a:srgbClr val="cc3333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"/>
          <p:cNvPicPr/>
          <p:nvPr/>
        </p:nvPicPr>
        <p:blipFill>
          <a:blip r:embed="rId2"/>
          <a:stretch/>
        </p:blipFill>
        <p:spPr>
          <a:xfrm>
            <a:off x="6357960" y="6299280"/>
            <a:ext cx="2519280" cy="392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6357960" y="6299280"/>
            <a:ext cx="2519280" cy="392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8760" y="303120"/>
            <a:ext cx="8643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8760" y="1052280"/>
            <a:ext cx="864396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30240" y="6356520"/>
            <a:ext cx="544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6F12-74DD-428B-9A7E-977F785284CB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384120" y="2392200"/>
            <a:ext cx="835992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reeform 4"/>
          <p:cNvSpPr/>
          <p:nvPr/>
        </p:nvSpPr>
        <p:spPr>
          <a:xfrm>
            <a:off x="4572000" y="2712960"/>
            <a:ext cx="3695760" cy="20160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3695700" h="201612">
                <a:moveTo>
                  <a:pt x="0" y="0"/>
                </a:moveTo>
                <a:lnTo>
                  <a:pt x="0" y="100700"/>
                </a:lnTo>
                <a:lnTo>
                  <a:pt x="3696375" y="100700"/>
                </a:lnTo>
                <a:lnTo>
                  <a:pt x="3696375" y="20140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"/>
          <p:cNvSpPr/>
          <p:nvPr/>
        </p:nvSpPr>
        <p:spPr>
          <a:xfrm>
            <a:off x="4572000" y="2712960"/>
            <a:ext cx="2405160" cy="20160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2405063" h="201612">
                <a:moveTo>
                  <a:pt x="0" y="0"/>
                </a:moveTo>
                <a:lnTo>
                  <a:pt x="0" y="100700"/>
                </a:lnTo>
                <a:lnTo>
                  <a:pt x="2404963" y="100700"/>
                </a:lnTo>
                <a:lnTo>
                  <a:pt x="2404963" y="20140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"/>
          <p:cNvSpPr/>
          <p:nvPr/>
        </p:nvSpPr>
        <p:spPr>
          <a:xfrm>
            <a:off x="4572000" y="2712960"/>
            <a:ext cx="1181160" cy="20160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181100" h="201612">
                <a:moveTo>
                  <a:pt x="0" y="0"/>
                </a:moveTo>
                <a:lnTo>
                  <a:pt x="0" y="100700"/>
                </a:lnTo>
                <a:lnTo>
                  <a:pt x="1181442" y="100700"/>
                </a:lnTo>
                <a:lnTo>
                  <a:pt x="1181442" y="20140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7"/>
          <p:cNvSpPr/>
          <p:nvPr/>
        </p:nvSpPr>
        <p:spPr>
          <a:xfrm>
            <a:off x="4525920" y="2712960"/>
            <a:ext cx="92160" cy="201600"/>
          </a:xfrm>
          <a:custGeom>
            <a:avLst/>
            <a:gdLst>
              <a:gd name="textAreaLeft" fmla="*/ 0 w 92160"/>
              <a:gd name="textAreaRight" fmla="*/ 92520 w 92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92075" h="201612">
                <a:moveTo>
                  <a:pt x="45720" y="0"/>
                </a:moveTo>
                <a:lnTo>
                  <a:pt x="45720" y="100700"/>
                </a:lnTo>
                <a:lnTo>
                  <a:pt x="89016" y="100700"/>
                </a:lnTo>
                <a:lnTo>
                  <a:pt x="89016" y="20140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8"/>
          <p:cNvSpPr/>
          <p:nvPr/>
        </p:nvSpPr>
        <p:spPr>
          <a:xfrm>
            <a:off x="3456000" y="2712960"/>
            <a:ext cx="1116000" cy="201600"/>
          </a:xfrm>
          <a:custGeom>
            <a:avLst/>
            <a:gdLst>
              <a:gd name="textAreaLeft" fmla="*/ 0 w 1116000"/>
              <a:gd name="textAreaRight" fmla="*/ 1116360 w 111600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116012" h="201612">
                <a:moveTo>
                  <a:pt x="1115430" y="0"/>
                </a:moveTo>
                <a:lnTo>
                  <a:pt x="1115430" y="100700"/>
                </a:lnTo>
                <a:lnTo>
                  <a:pt x="0" y="100700"/>
                </a:lnTo>
                <a:lnTo>
                  <a:pt x="0" y="20140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9"/>
          <p:cNvSpPr/>
          <p:nvPr/>
        </p:nvSpPr>
        <p:spPr>
          <a:xfrm>
            <a:off x="2222640" y="2712960"/>
            <a:ext cx="2349360" cy="201600"/>
          </a:xfrm>
          <a:custGeom>
            <a:avLst/>
            <a:gdLst>
              <a:gd name="textAreaLeft" fmla="*/ 0 w 2349360"/>
              <a:gd name="textAreaRight" fmla="*/ 2349720 w 23493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2349500" h="201612">
                <a:moveTo>
                  <a:pt x="2348848" y="0"/>
                </a:moveTo>
                <a:lnTo>
                  <a:pt x="2348848" y="100700"/>
                </a:lnTo>
                <a:lnTo>
                  <a:pt x="0" y="100700"/>
                </a:lnTo>
                <a:lnTo>
                  <a:pt x="0" y="20140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0"/>
          <p:cNvSpPr/>
          <p:nvPr/>
        </p:nvSpPr>
        <p:spPr>
          <a:xfrm>
            <a:off x="909720" y="2712960"/>
            <a:ext cx="3662280" cy="201600"/>
          </a:xfrm>
          <a:custGeom>
            <a:avLst/>
            <a:gdLst>
              <a:gd name="textAreaLeft" fmla="*/ 0 w 3662280"/>
              <a:gd name="textAreaRight" fmla="*/ 3662640 w 366228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3662362" h="201612">
                <a:moveTo>
                  <a:pt x="3662976" y="0"/>
                </a:moveTo>
                <a:lnTo>
                  <a:pt x="3662976" y="100700"/>
                </a:lnTo>
                <a:lnTo>
                  <a:pt x="0" y="100700"/>
                </a:lnTo>
                <a:lnTo>
                  <a:pt x="0" y="20140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Freeform 11"/>
          <p:cNvGrpSpPr/>
          <p:nvPr/>
        </p:nvGrpSpPr>
        <p:grpSpPr>
          <a:xfrm>
            <a:off x="3943440" y="1511280"/>
            <a:ext cx="1268280" cy="1262160"/>
            <a:chOff x="3943440" y="1511280"/>
            <a:chExt cx="1268280" cy="1262160"/>
          </a:xfrm>
        </p:grpSpPr>
        <p:pic>
          <p:nvPicPr>
            <p:cNvPr id="100" name="Freeform 11" descr=""/>
            <p:cNvPicPr/>
            <p:nvPr/>
          </p:nvPicPr>
          <p:blipFill>
            <a:blip r:embed="rId1"/>
            <a:stretch/>
          </p:blipFill>
          <p:spPr>
            <a:xfrm>
              <a:off x="3943440" y="1511280"/>
              <a:ext cx="126828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003560" y="1550880"/>
              <a:ext cx="1152720" cy="11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Chief Executi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Oliver Morle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Freeform 12"/>
          <p:cNvGrpSpPr/>
          <p:nvPr/>
        </p:nvGrpSpPr>
        <p:grpSpPr>
          <a:xfrm>
            <a:off x="262080" y="2876400"/>
            <a:ext cx="1268280" cy="1262160"/>
            <a:chOff x="262080" y="2876400"/>
            <a:chExt cx="1268280" cy="1262160"/>
          </a:xfrm>
        </p:grpSpPr>
        <p:pic>
          <p:nvPicPr>
            <p:cNvPr id="103" name="Freeform 12" descr=""/>
            <p:cNvPicPr/>
            <p:nvPr/>
          </p:nvPicPr>
          <p:blipFill>
            <a:blip r:embed="rId2"/>
            <a:stretch/>
          </p:blipFill>
          <p:spPr>
            <a:xfrm>
              <a:off x="262080" y="2876400"/>
              <a:ext cx="126828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24000" y="2914560"/>
              <a:ext cx="115092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Director of Human Resources and Organisational Develop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Caroline Ottaway-Sear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Freeform 13"/>
          <p:cNvGrpSpPr/>
          <p:nvPr/>
        </p:nvGrpSpPr>
        <p:grpSpPr>
          <a:xfrm>
            <a:off x="1487520" y="2876400"/>
            <a:ext cx="1268280" cy="1262160"/>
            <a:chOff x="1487520" y="2876400"/>
            <a:chExt cx="1268280" cy="1262160"/>
          </a:xfrm>
        </p:grpSpPr>
        <p:pic>
          <p:nvPicPr>
            <p:cNvPr id="106" name="Freeform 13" descr=""/>
            <p:cNvPicPr/>
            <p:nvPr/>
          </p:nvPicPr>
          <p:blipFill>
            <a:blip r:embed="rId3"/>
            <a:stretch/>
          </p:blipFill>
          <p:spPr>
            <a:xfrm>
              <a:off x="1487520" y="2876400"/>
              <a:ext cx="126828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550880" y="2914560"/>
              <a:ext cx="115092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Director of Customer and Business Develop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Mary Gledhil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Freeform 14"/>
          <p:cNvGrpSpPr/>
          <p:nvPr/>
        </p:nvGrpSpPr>
        <p:grpSpPr>
          <a:xfrm>
            <a:off x="2719440" y="2876400"/>
            <a:ext cx="1266840" cy="1262160"/>
            <a:chOff x="2719440" y="2876400"/>
            <a:chExt cx="1266840" cy="1262160"/>
          </a:xfrm>
        </p:grpSpPr>
        <p:pic>
          <p:nvPicPr>
            <p:cNvPr id="109" name="Freeform 14" descr=""/>
            <p:cNvPicPr/>
            <p:nvPr/>
          </p:nvPicPr>
          <p:blipFill>
            <a:blip r:embed="rId4"/>
            <a:stretch/>
          </p:blipFill>
          <p:spPr>
            <a:xfrm>
              <a:off x="2719440" y="2876400"/>
              <a:ext cx="12668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778120" y="2914560"/>
              <a:ext cx="115236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Director of Technolog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David Thom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Freeform 15"/>
          <p:cNvGrpSpPr/>
          <p:nvPr/>
        </p:nvGrpSpPr>
        <p:grpSpPr>
          <a:xfrm>
            <a:off x="3943440" y="2876400"/>
            <a:ext cx="1274760" cy="1262160"/>
            <a:chOff x="3943440" y="2876400"/>
            <a:chExt cx="1274760" cy="1262160"/>
          </a:xfrm>
        </p:grpSpPr>
        <p:pic>
          <p:nvPicPr>
            <p:cNvPr id="112" name="Freeform 15" descr=""/>
            <p:cNvPicPr/>
            <p:nvPr/>
          </p:nvPicPr>
          <p:blipFill>
            <a:blip r:embed="rId5"/>
            <a:stretch/>
          </p:blipFill>
          <p:spPr>
            <a:xfrm>
              <a:off x="3943440" y="2876400"/>
              <a:ext cx="127476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005360" y="2914560"/>
              <a:ext cx="115236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Director of Finance and Performan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Clem Brohi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Freeform 16"/>
          <p:cNvGrpSpPr/>
          <p:nvPr/>
        </p:nvGrpSpPr>
        <p:grpSpPr>
          <a:xfrm>
            <a:off x="5168880" y="2876400"/>
            <a:ext cx="1268280" cy="1262160"/>
            <a:chOff x="5168880" y="2876400"/>
            <a:chExt cx="1268280" cy="1262160"/>
          </a:xfrm>
        </p:grpSpPr>
        <p:pic>
          <p:nvPicPr>
            <p:cNvPr id="115" name="Freeform 16" descr=""/>
            <p:cNvPicPr/>
            <p:nvPr/>
          </p:nvPicPr>
          <p:blipFill>
            <a:blip r:embed="rId6"/>
            <a:stretch/>
          </p:blipFill>
          <p:spPr>
            <a:xfrm>
              <a:off x="5168880" y="2876400"/>
              <a:ext cx="126828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232240" y="2914560"/>
              <a:ext cx="115272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Director of Operations and Servic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Jeff Jam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Freeform 17"/>
          <p:cNvGrpSpPr/>
          <p:nvPr/>
        </p:nvGrpSpPr>
        <p:grpSpPr>
          <a:xfrm>
            <a:off x="6400800" y="2876400"/>
            <a:ext cx="1268280" cy="1262160"/>
            <a:chOff x="6400800" y="2876400"/>
            <a:chExt cx="1268280" cy="1262160"/>
          </a:xfrm>
        </p:grpSpPr>
        <p:pic>
          <p:nvPicPr>
            <p:cNvPr id="118" name="Freeform 17" descr=""/>
            <p:cNvPicPr/>
            <p:nvPr/>
          </p:nvPicPr>
          <p:blipFill>
            <a:blip r:embed="rId7"/>
            <a:stretch/>
          </p:blipFill>
          <p:spPr>
            <a:xfrm>
              <a:off x="6400800" y="2876400"/>
              <a:ext cx="126828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459480" y="2914560"/>
              <a:ext cx="115272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Director of Information Policy and Servic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Carol Tull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Freeform 18"/>
          <p:cNvGrpSpPr/>
          <p:nvPr/>
        </p:nvGrpSpPr>
        <p:grpSpPr>
          <a:xfrm>
            <a:off x="7626240" y="2876400"/>
            <a:ext cx="1268640" cy="1262160"/>
            <a:chOff x="7626240" y="2876400"/>
            <a:chExt cx="1268640" cy="1262160"/>
          </a:xfrm>
        </p:grpSpPr>
        <p:pic>
          <p:nvPicPr>
            <p:cNvPr id="121" name="Freeform 18" descr=""/>
            <p:cNvPicPr/>
            <p:nvPr/>
          </p:nvPicPr>
          <p:blipFill>
            <a:blip r:embed="rId8"/>
            <a:stretch/>
          </p:blipFill>
          <p:spPr>
            <a:xfrm>
              <a:off x="7626240" y="2876400"/>
              <a:ext cx="12686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686720" y="2914560"/>
              <a:ext cx="115236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Head of Chief Executive’s Offi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Julie Lennar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30240" y="6356520"/>
            <a:ext cx="54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7ABE-97A4-4A50-B223-4F48D86CA0A8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2708280" y="601560"/>
            <a:ext cx="434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uman Resources and Organisation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5"/>
          <p:cNvSpPr/>
          <p:nvPr/>
        </p:nvSpPr>
        <p:spPr>
          <a:xfrm>
            <a:off x="4740120" y="2505240"/>
            <a:ext cx="2965680" cy="34596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965450" h="346075">
                <a:moveTo>
                  <a:pt x="0" y="0"/>
                </a:moveTo>
                <a:lnTo>
                  <a:pt x="0" y="173463"/>
                </a:lnTo>
                <a:lnTo>
                  <a:pt x="2964539" y="173463"/>
                </a:lnTo>
                <a:lnTo>
                  <a:pt x="2964539" y="34692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6"/>
          <p:cNvSpPr/>
          <p:nvPr/>
        </p:nvSpPr>
        <p:spPr>
          <a:xfrm>
            <a:off x="4740120" y="2505240"/>
            <a:ext cx="1000440" cy="345960"/>
          </a:xfrm>
          <a:custGeom>
            <a:avLst/>
            <a:gdLst>
              <a:gd name="textAreaLeft" fmla="*/ 0 w 1000440"/>
              <a:gd name="textAreaRight" fmla="*/ 1000800 w 100044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1000125" h="346075">
                <a:moveTo>
                  <a:pt x="0" y="0"/>
                </a:moveTo>
                <a:lnTo>
                  <a:pt x="0" y="173463"/>
                </a:lnTo>
                <a:lnTo>
                  <a:pt x="999481" y="173463"/>
                </a:lnTo>
                <a:lnTo>
                  <a:pt x="999481" y="34692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3741840" y="2505240"/>
            <a:ext cx="998280" cy="345960"/>
          </a:xfrm>
          <a:custGeom>
            <a:avLst/>
            <a:gdLst>
              <a:gd name="textAreaLeft" fmla="*/ 0 w 998280"/>
              <a:gd name="textAreaRight" fmla="*/ 998640 w 99828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998537" h="346075">
                <a:moveTo>
                  <a:pt x="999481" y="0"/>
                </a:moveTo>
                <a:lnTo>
                  <a:pt x="999481" y="173463"/>
                </a:lnTo>
                <a:lnTo>
                  <a:pt x="0" y="173463"/>
                </a:lnTo>
                <a:lnTo>
                  <a:pt x="0" y="34692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8"/>
          <p:cNvSpPr/>
          <p:nvPr/>
        </p:nvSpPr>
        <p:spPr>
          <a:xfrm>
            <a:off x="1741320" y="2505240"/>
            <a:ext cx="2998800" cy="345960"/>
          </a:xfrm>
          <a:custGeom>
            <a:avLst/>
            <a:gdLst>
              <a:gd name="textAreaLeft" fmla="*/ 0 w 2998800"/>
              <a:gd name="textAreaRight" fmla="*/ 2999160 w 29988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998787" h="346075">
                <a:moveTo>
                  <a:pt x="2998443" y="0"/>
                </a:moveTo>
                <a:lnTo>
                  <a:pt x="2998443" y="173463"/>
                </a:lnTo>
                <a:lnTo>
                  <a:pt x="0" y="173463"/>
                </a:lnTo>
                <a:lnTo>
                  <a:pt x="0" y="34692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Freeform 9"/>
          <p:cNvGrpSpPr/>
          <p:nvPr/>
        </p:nvGrpSpPr>
        <p:grpSpPr>
          <a:xfrm>
            <a:off x="3780000" y="1639800"/>
            <a:ext cx="1968480" cy="938160"/>
            <a:chOff x="3780000" y="1639800"/>
            <a:chExt cx="1968480" cy="938160"/>
          </a:xfrm>
        </p:grpSpPr>
        <p:pic>
          <p:nvPicPr>
            <p:cNvPr id="130" name="Freeform 9" descr=""/>
            <p:cNvPicPr/>
            <p:nvPr/>
          </p:nvPicPr>
          <p:blipFill>
            <a:blip r:embed="rId1"/>
            <a:stretch/>
          </p:blipFill>
          <p:spPr>
            <a:xfrm>
              <a:off x="3780000" y="1639800"/>
              <a:ext cx="19684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857760" y="1679400"/>
              <a:ext cx="180000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irector of Human Resources and Organisational Develop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aroline Ottaway-Sear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Freeform 10"/>
          <p:cNvGrpSpPr/>
          <p:nvPr/>
        </p:nvGrpSpPr>
        <p:grpSpPr>
          <a:xfrm>
            <a:off x="804960" y="2816280"/>
            <a:ext cx="1919160" cy="933480"/>
            <a:chOff x="804960" y="2816280"/>
            <a:chExt cx="1919160" cy="933480"/>
          </a:xfrm>
        </p:grpSpPr>
        <p:pic>
          <p:nvPicPr>
            <p:cNvPr id="133" name="Freeform 10" descr=""/>
            <p:cNvPicPr/>
            <p:nvPr/>
          </p:nvPicPr>
          <p:blipFill>
            <a:blip r:embed="rId2"/>
            <a:stretch/>
          </p:blipFill>
          <p:spPr>
            <a:xfrm>
              <a:off x="804960" y="2816280"/>
              <a:ext cx="191916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68320" y="2851200"/>
              <a:ext cx="180036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R Operations Manag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acqui Bail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Freeform 11"/>
          <p:cNvGrpSpPr/>
          <p:nvPr/>
        </p:nvGrpSpPr>
        <p:grpSpPr>
          <a:xfrm>
            <a:off x="2798640" y="2816280"/>
            <a:ext cx="1913040" cy="933480"/>
            <a:chOff x="2798640" y="2816280"/>
            <a:chExt cx="1913040" cy="933480"/>
          </a:xfrm>
        </p:grpSpPr>
        <p:pic>
          <p:nvPicPr>
            <p:cNvPr id="136" name="Freeform 11" descr=""/>
            <p:cNvPicPr/>
            <p:nvPr/>
          </p:nvPicPr>
          <p:blipFill>
            <a:blip r:embed="rId3"/>
            <a:stretch/>
          </p:blipFill>
          <p:spPr>
            <a:xfrm>
              <a:off x="2798640" y="2816280"/>
              <a:ext cx="191304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857680" y="2851200"/>
              <a:ext cx="18000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cruitment, Learning and Development and Staff Engagement Manag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ane Craigie-Pay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Freeform 12"/>
          <p:cNvGrpSpPr/>
          <p:nvPr/>
        </p:nvGrpSpPr>
        <p:grpSpPr>
          <a:xfrm>
            <a:off x="4803840" y="2816280"/>
            <a:ext cx="1920960" cy="933480"/>
            <a:chOff x="4803840" y="2816280"/>
            <a:chExt cx="1920960" cy="933480"/>
          </a:xfrm>
        </p:grpSpPr>
        <p:pic>
          <p:nvPicPr>
            <p:cNvPr id="139" name="Freeform 12" descr=""/>
            <p:cNvPicPr/>
            <p:nvPr/>
          </p:nvPicPr>
          <p:blipFill>
            <a:blip r:embed="rId4"/>
            <a:stretch/>
          </p:blipFill>
          <p:spPr>
            <a:xfrm>
              <a:off x="4803840" y="2816280"/>
              <a:ext cx="192096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865760" y="2851200"/>
              <a:ext cx="18000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R Business Part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Esi Kpegl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Freeform 13"/>
          <p:cNvGrpSpPr/>
          <p:nvPr/>
        </p:nvGrpSpPr>
        <p:grpSpPr>
          <a:xfrm>
            <a:off x="6772320" y="2816280"/>
            <a:ext cx="1914480" cy="933480"/>
            <a:chOff x="6772320" y="2816280"/>
            <a:chExt cx="1914480" cy="933480"/>
          </a:xfrm>
        </p:grpSpPr>
        <p:pic>
          <p:nvPicPr>
            <p:cNvPr id="142" name="Freeform 13" descr=""/>
            <p:cNvPicPr/>
            <p:nvPr/>
          </p:nvPicPr>
          <p:blipFill>
            <a:blip r:embed="rId5"/>
            <a:stretch/>
          </p:blipFill>
          <p:spPr>
            <a:xfrm>
              <a:off x="6772320" y="2816280"/>
              <a:ext cx="191448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6831000" y="2851200"/>
              <a:ext cx="180036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R Business Part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arah Stew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30240" y="6356520"/>
            <a:ext cx="54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7418-AD8C-4C8A-BFFE-4CBF884CCE45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2577960" y="420840"/>
            <a:ext cx="434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stomer and Business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5"/>
          <p:cNvSpPr/>
          <p:nvPr/>
        </p:nvSpPr>
        <p:spPr>
          <a:xfrm>
            <a:off x="4100400" y="2359080"/>
            <a:ext cx="181080" cy="2841480"/>
          </a:xfrm>
          <a:custGeom>
            <a:avLst/>
            <a:gdLst>
              <a:gd name="textAreaLeft" fmla="*/ 0 w 181080"/>
              <a:gd name="textAreaRight" fmla="*/ 181440 w 181080"/>
              <a:gd name="textAreaTop" fmla="*/ 0 h 2841480"/>
              <a:gd name="textAreaBottom" fmla="*/ 2841840 h 2841480"/>
            </a:gdLst>
            <a:ahLst/>
            <a:rect l="textAreaLeft" t="textAreaTop" r="textAreaRight" b="textAreaBottom"/>
            <a:pathLst>
              <a:path w="180975" h="2841625">
                <a:moveTo>
                  <a:pt x="180594" y="0"/>
                </a:moveTo>
                <a:lnTo>
                  <a:pt x="180594" y="2841098"/>
                </a:lnTo>
                <a:lnTo>
                  <a:pt x="0" y="284109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6"/>
          <p:cNvSpPr/>
          <p:nvPr/>
        </p:nvSpPr>
        <p:spPr>
          <a:xfrm>
            <a:off x="4281480" y="2359080"/>
            <a:ext cx="328680" cy="1117440"/>
          </a:xfrm>
          <a:custGeom>
            <a:avLst/>
            <a:gdLst>
              <a:gd name="textAreaLeft" fmla="*/ 0 w 328680"/>
              <a:gd name="textAreaRight" fmla="*/ 329040 w 328680"/>
              <a:gd name="textAreaTop" fmla="*/ 0 h 1117440"/>
              <a:gd name="textAreaBottom" fmla="*/ 1117800 h 1117440"/>
            </a:gdLst>
            <a:ahLst/>
            <a:rect l="textAreaLeft" t="textAreaTop" r="textAreaRight" b="textAreaBottom"/>
            <a:pathLst>
              <a:path w="328612" h="1117600">
                <a:moveTo>
                  <a:pt x="0" y="0"/>
                </a:moveTo>
                <a:lnTo>
                  <a:pt x="0" y="1117215"/>
                </a:lnTo>
                <a:lnTo>
                  <a:pt x="329285" y="11172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7"/>
          <p:cNvSpPr/>
          <p:nvPr/>
        </p:nvSpPr>
        <p:spPr>
          <a:xfrm>
            <a:off x="4100400" y="2359080"/>
            <a:ext cx="181080" cy="1117440"/>
          </a:xfrm>
          <a:custGeom>
            <a:avLst/>
            <a:gdLst>
              <a:gd name="textAreaLeft" fmla="*/ 0 w 181080"/>
              <a:gd name="textAreaRight" fmla="*/ 181440 w 181080"/>
              <a:gd name="textAreaTop" fmla="*/ 0 h 1117440"/>
              <a:gd name="textAreaBottom" fmla="*/ 1117800 h 1117440"/>
            </a:gdLst>
            <a:ahLst/>
            <a:rect l="textAreaLeft" t="textAreaTop" r="textAreaRight" b="textAreaBottom"/>
            <a:pathLst>
              <a:path w="180975" h="1117600">
                <a:moveTo>
                  <a:pt x="180594" y="0"/>
                </a:moveTo>
                <a:lnTo>
                  <a:pt x="180594" y="1117215"/>
                </a:lnTo>
                <a:lnTo>
                  <a:pt x="0" y="11172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Freeform 8"/>
          <p:cNvGrpSpPr/>
          <p:nvPr/>
        </p:nvGrpSpPr>
        <p:grpSpPr>
          <a:xfrm>
            <a:off x="3322800" y="1487520"/>
            <a:ext cx="1914480" cy="938160"/>
            <a:chOff x="3322800" y="1487520"/>
            <a:chExt cx="1914480" cy="938160"/>
          </a:xfrm>
        </p:grpSpPr>
        <p:pic>
          <p:nvPicPr>
            <p:cNvPr id="150" name="Freeform 8" descr=""/>
            <p:cNvPicPr/>
            <p:nvPr/>
          </p:nvPicPr>
          <p:blipFill>
            <a:blip r:embed="rId1"/>
            <a:stretch/>
          </p:blipFill>
          <p:spPr>
            <a:xfrm>
              <a:off x="3322800" y="1487520"/>
              <a:ext cx="19144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382920" y="1527120"/>
              <a:ext cx="1798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irector of Customer and Business Develop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ary Gledhil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Freeform 9"/>
          <p:cNvGrpSpPr/>
          <p:nvPr/>
        </p:nvGrpSpPr>
        <p:grpSpPr>
          <a:xfrm>
            <a:off x="2255760" y="3024360"/>
            <a:ext cx="1914480" cy="931680"/>
            <a:chOff x="2255760" y="3024360"/>
            <a:chExt cx="1914480" cy="931680"/>
          </a:xfrm>
        </p:grpSpPr>
        <p:pic>
          <p:nvPicPr>
            <p:cNvPr id="153" name="Freeform 9" descr=""/>
            <p:cNvPicPr/>
            <p:nvPr/>
          </p:nvPicPr>
          <p:blipFill>
            <a:blip r:embed="rId2"/>
            <a:stretch/>
          </p:blipFill>
          <p:spPr>
            <a:xfrm>
              <a:off x="2255760" y="3024360"/>
              <a:ext cx="191448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317680" y="3060720"/>
              <a:ext cx="180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Press Offic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el Hi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Freeform 10"/>
          <p:cNvGrpSpPr/>
          <p:nvPr/>
        </p:nvGrpSpPr>
        <p:grpSpPr>
          <a:xfrm>
            <a:off x="4559400" y="4005360"/>
            <a:ext cx="1914480" cy="931680"/>
            <a:chOff x="4559400" y="4005360"/>
            <a:chExt cx="1914480" cy="931680"/>
          </a:xfrm>
        </p:grpSpPr>
        <p:pic>
          <p:nvPicPr>
            <p:cNvPr id="156" name="Freeform 10" descr=""/>
            <p:cNvPicPr/>
            <p:nvPr/>
          </p:nvPicPr>
          <p:blipFill>
            <a:blip r:embed="rId3"/>
            <a:stretch/>
          </p:blipFill>
          <p:spPr>
            <a:xfrm>
              <a:off x="4559400" y="4005360"/>
              <a:ext cx="191448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619520" y="4041720"/>
              <a:ext cx="180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Strategic Communications and Marke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(Vacant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Freeform 11"/>
          <p:cNvGrpSpPr/>
          <p:nvPr/>
        </p:nvGrpSpPr>
        <p:grpSpPr>
          <a:xfrm>
            <a:off x="2255760" y="4754520"/>
            <a:ext cx="1914480" cy="939960"/>
            <a:chOff x="2255760" y="4754520"/>
            <a:chExt cx="1914480" cy="939960"/>
          </a:xfrm>
        </p:grpSpPr>
        <p:pic>
          <p:nvPicPr>
            <p:cNvPr id="159" name="Freeform 11" descr=""/>
            <p:cNvPicPr/>
            <p:nvPr/>
          </p:nvPicPr>
          <p:blipFill>
            <a:blip r:embed="rId4"/>
            <a:stretch/>
          </p:blipFill>
          <p:spPr>
            <a:xfrm>
              <a:off x="2255760" y="4754520"/>
              <a:ext cx="191448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317680" y="4794120"/>
              <a:ext cx="180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Licens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aroline Kimb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Freeform 12"/>
          <p:cNvSpPr/>
          <p:nvPr/>
        </p:nvSpPr>
        <p:spPr>
          <a:xfrm>
            <a:off x="4281480" y="3387600"/>
            <a:ext cx="328680" cy="1117800"/>
          </a:xfrm>
          <a:custGeom>
            <a:avLst/>
            <a:gdLst>
              <a:gd name="textAreaLeft" fmla="*/ 0 w 328680"/>
              <a:gd name="textAreaRight" fmla="*/ 329040 w 328680"/>
              <a:gd name="textAreaTop" fmla="*/ 0 h 1117800"/>
              <a:gd name="textAreaBottom" fmla="*/ 1118160 h 1117800"/>
            </a:gdLst>
            <a:ahLst/>
            <a:rect l="textAreaLeft" t="textAreaTop" r="textAreaRight" b="textAreaBottom"/>
            <a:pathLst>
              <a:path w="328612" h="1117600">
                <a:moveTo>
                  <a:pt x="0" y="0"/>
                </a:moveTo>
                <a:lnTo>
                  <a:pt x="0" y="1117215"/>
                </a:lnTo>
                <a:lnTo>
                  <a:pt x="329285" y="11172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Freeform 13"/>
          <p:cNvGrpSpPr/>
          <p:nvPr/>
        </p:nvGrpSpPr>
        <p:grpSpPr>
          <a:xfrm>
            <a:off x="4516560" y="2955960"/>
            <a:ext cx="1920600" cy="933480"/>
            <a:chOff x="4516560" y="2955960"/>
            <a:chExt cx="1920600" cy="933480"/>
          </a:xfrm>
        </p:grpSpPr>
        <p:pic>
          <p:nvPicPr>
            <p:cNvPr id="163" name="Freeform 13" descr=""/>
            <p:cNvPicPr/>
            <p:nvPr/>
          </p:nvPicPr>
          <p:blipFill>
            <a:blip r:embed="rId5"/>
            <a:stretch/>
          </p:blipFill>
          <p:spPr>
            <a:xfrm>
              <a:off x="4516560" y="2955960"/>
              <a:ext cx="192060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581360" y="2994120"/>
              <a:ext cx="18003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Commercial Delive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hris Mumb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1"/>
          <p:cNvSpPr/>
          <p:nvPr/>
        </p:nvSpPr>
        <p:spPr>
          <a:xfrm>
            <a:off x="30240" y="6356520"/>
            <a:ext cx="54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7832-102D-4681-BDB5-7389A4077114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3906720" y="450720"/>
            <a:ext cx="109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6"/>
          <p:cNvSpPr/>
          <p:nvPr/>
        </p:nvSpPr>
        <p:spPr>
          <a:xfrm>
            <a:off x="4495680" y="1658880"/>
            <a:ext cx="2170080" cy="2900520"/>
          </a:xfrm>
          <a:custGeom>
            <a:avLst/>
            <a:gdLst>
              <a:gd name="textAreaLeft" fmla="*/ 0 w 2170080"/>
              <a:gd name="textAreaRight" fmla="*/ 2170440 w 2170080"/>
              <a:gd name="textAreaTop" fmla="*/ 0 h 2900520"/>
              <a:gd name="textAreaBottom" fmla="*/ 2900880 h 2900520"/>
            </a:gdLst>
            <a:ahLst/>
            <a:rect l="textAreaLeft" t="textAreaTop" r="textAreaRight" b="textAreaBottom"/>
            <a:pathLst>
              <a:path w="2170113" h="2900362">
                <a:moveTo>
                  <a:pt x="0" y="0"/>
                </a:moveTo>
                <a:lnTo>
                  <a:pt x="0" y="2900557"/>
                </a:lnTo>
                <a:lnTo>
                  <a:pt x="2170575" y="290055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7"/>
          <p:cNvSpPr/>
          <p:nvPr/>
        </p:nvSpPr>
        <p:spPr>
          <a:xfrm>
            <a:off x="4392720" y="1658880"/>
            <a:ext cx="102960" cy="4017960"/>
          </a:xfrm>
          <a:custGeom>
            <a:avLst/>
            <a:gdLst>
              <a:gd name="textAreaLeft" fmla="*/ 0 w 102960"/>
              <a:gd name="textAreaRight" fmla="*/ 103320 w 102960"/>
              <a:gd name="textAreaTop" fmla="*/ 0 h 4017960"/>
              <a:gd name="textAreaBottom" fmla="*/ 4018320 h 4017960"/>
            </a:gdLst>
            <a:ahLst/>
            <a:rect l="textAreaLeft" t="textAreaTop" r="textAreaRight" b="textAreaBottom"/>
            <a:pathLst>
              <a:path w="103187" h="4017962">
                <a:moveTo>
                  <a:pt x="102104" y="0"/>
                </a:moveTo>
                <a:lnTo>
                  <a:pt x="102104" y="4017266"/>
                </a:lnTo>
                <a:lnTo>
                  <a:pt x="0" y="401726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8"/>
          <p:cNvSpPr/>
          <p:nvPr/>
        </p:nvSpPr>
        <p:spPr>
          <a:xfrm>
            <a:off x="4495680" y="1658880"/>
            <a:ext cx="223920" cy="2916360"/>
          </a:xfrm>
          <a:custGeom>
            <a:avLst/>
            <a:gdLst>
              <a:gd name="textAreaLeft" fmla="*/ 0 w 223920"/>
              <a:gd name="textAreaRight" fmla="*/ 224280 w 223920"/>
              <a:gd name="textAreaTop" fmla="*/ 0 h 2916360"/>
              <a:gd name="textAreaBottom" fmla="*/ 2916720 h 2916360"/>
            </a:gdLst>
            <a:ahLst/>
            <a:rect l="textAreaLeft" t="textAreaTop" r="textAreaRight" b="textAreaBottom"/>
            <a:pathLst>
              <a:path w="223838" h="2916237">
                <a:moveTo>
                  <a:pt x="0" y="0"/>
                </a:moveTo>
                <a:lnTo>
                  <a:pt x="0" y="2916373"/>
                </a:lnTo>
                <a:lnTo>
                  <a:pt x="223512" y="291637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"/>
          <p:cNvSpPr/>
          <p:nvPr/>
        </p:nvSpPr>
        <p:spPr>
          <a:xfrm>
            <a:off x="4392720" y="1658880"/>
            <a:ext cx="102960" cy="2916360"/>
          </a:xfrm>
          <a:custGeom>
            <a:avLst/>
            <a:gdLst>
              <a:gd name="textAreaLeft" fmla="*/ 0 w 102960"/>
              <a:gd name="textAreaRight" fmla="*/ 103320 w 102960"/>
              <a:gd name="textAreaTop" fmla="*/ 0 h 2916360"/>
              <a:gd name="textAreaBottom" fmla="*/ 2916720 h 2916360"/>
            </a:gdLst>
            <a:ahLst/>
            <a:rect l="textAreaLeft" t="textAreaTop" r="textAreaRight" b="textAreaBottom"/>
            <a:pathLst>
              <a:path w="103187" h="2916237">
                <a:moveTo>
                  <a:pt x="102104" y="0"/>
                </a:moveTo>
                <a:lnTo>
                  <a:pt x="102104" y="2916373"/>
                </a:lnTo>
                <a:lnTo>
                  <a:pt x="0" y="291637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0"/>
          <p:cNvSpPr/>
          <p:nvPr/>
        </p:nvSpPr>
        <p:spPr>
          <a:xfrm>
            <a:off x="4495680" y="1658880"/>
            <a:ext cx="223920" cy="1816200"/>
          </a:xfrm>
          <a:custGeom>
            <a:avLst/>
            <a:gdLst>
              <a:gd name="textAreaLeft" fmla="*/ 0 w 223920"/>
              <a:gd name="textAreaRight" fmla="*/ 224280 w 22392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223838" h="1816100">
                <a:moveTo>
                  <a:pt x="0" y="0"/>
                </a:moveTo>
                <a:lnTo>
                  <a:pt x="0" y="1815479"/>
                </a:lnTo>
                <a:lnTo>
                  <a:pt x="223512" y="181547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1"/>
          <p:cNvSpPr/>
          <p:nvPr/>
        </p:nvSpPr>
        <p:spPr>
          <a:xfrm>
            <a:off x="4392720" y="1658880"/>
            <a:ext cx="102960" cy="1816200"/>
          </a:xfrm>
          <a:custGeom>
            <a:avLst/>
            <a:gdLst>
              <a:gd name="textAreaLeft" fmla="*/ 0 w 102960"/>
              <a:gd name="textAreaRight" fmla="*/ 103320 w 102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103187" h="1816100">
                <a:moveTo>
                  <a:pt x="102104" y="0"/>
                </a:moveTo>
                <a:lnTo>
                  <a:pt x="102104" y="1815479"/>
                </a:lnTo>
                <a:lnTo>
                  <a:pt x="0" y="181547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2"/>
          <p:cNvSpPr/>
          <p:nvPr/>
        </p:nvSpPr>
        <p:spPr>
          <a:xfrm>
            <a:off x="4495680" y="1658880"/>
            <a:ext cx="187560" cy="712800"/>
          </a:xfrm>
          <a:custGeom>
            <a:avLst/>
            <a:gdLst>
              <a:gd name="textAreaLeft" fmla="*/ 0 w 187560"/>
              <a:gd name="textAreaRight" fmla="*/ 187920 w 1875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87325" h="712787">
                <a:moveTo>
                  <a:pt x="0" y="0"/>
                </a:moveTo>
                <a:lnTo>
                  <a:pt x="0" y="713158"/>
                </a:lnTo>
                <a:lnTo>
                  <a:pt x="187151" y="71315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3"/>
          <p:cNvSpPr/>
          <p:nvPr/>
        </p:nvSpPr>
        <p:spPr>
          <a:xfrm>
            <a:off x="4357800" y="1658880"/>
            <a:ext cx="137880" cy="712800"/>
          </a:xfrm>
          <a:custGeom>
            <a:avLst/>
            <a:gdLst>
              <a:gd name="textAreaLeft" fmla="*/ 0 w 137880"/>
              <a:gd name="textAreaRight" fmla="*/ 138240 w 13788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38112" h="712787">
                <a:moveTo>
                  <a:pt x="138464" y="0"/>
                </a:moveTo>
                <a:lnTo>
                  <a:pt x="138464" y="713158"/>
                </a:lnTo>
                <a:lnTo>
                  <a:pt x="0" y="71315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Freeform 14"/>
          <p:cNvGrpSpPr/>
          <p:nvPr/>
        </p:nvGrpSpPr>
        <p:grpSpPr>
          <a:xfrm>
            <a:off x="3657600" y="847800"/>
            <a:ext cx="1670040" cy="884160"/>
            <a:chOff x="3657600" y="847800"/>
            <a:chExt cx="1670040" cy="884160"/>
          </a:xfrm>
        </p:grpSpPr>
        <p:pic>
          <p:nvPicPr>
            <p:cNvPr id="176" name="Freeform 14" descr=""/>
            <p:cNvPicPr/>
            <p:nvPr/>
          </p:nvPicPr>
          <p:blipFill>
            <a:blip r:embed="rId1"/>
            <a:stretch/>
          </p:blipFill>
          <p:spPr>
            <a:xfrm>
              <a:off x="3657600" y="847800"/>
              <a:ext cx="16700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719520" y="884160"/>
              <a:ext cx="15508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irector of Technolog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avid Thom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Freeform 15"/>
          <p:cNvGrpSpPr/>
          <p:nvPr/>
        </p:nvGrpSpPr>
        <p:grpSpPr>
          <a:xfrm>
            <a:off x="2743200" y="1951200"/>
            <a:ext cx="1676520" cy="884160"/>
            <a:chOff x="2743200" y="1951200"/>
            <a:chExt cx="1676520" cy="884160"/>
          </a:xfrm>
        </p:grpSpPr>
        <p:pic>
          <p:nvPicPr>
            <p:cNvPr id="179" name="Freeform 15" descr=""/>
            <p:cNvPicPr/>
            <p:nvPr/>
          </p:nvPicPr>
          <p:blipFill>
            <a:blip r:embed="rId2"/>
            <a:stretch/>
          </p:blipFill>
          <p:spPr>
            <a:xfrm>
              <a:off x="2743200" y="1951200"/>
              <a:ext cx="167652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806560" y="1984320"/>
              <a:ext cx="1551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Information and Computer Technolog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manda Sp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Freeform 16"/>
          <p:cNvGrpSpPr/>
          <p:nvPr/>
        </p:nvGrpSpPr>
        <p:grpSpPr>
          <a:xfrm>
            <a:off x="4621320" y="1951200"/>
            <a:ext cx="1663560" cy="884160"/>
            <a:chOff x="4621320" y="1951200"/>
            <a:chExt cx="1663560" cy="884160"/>
          </a:xfrm>
        </p:grpSpPr>
        <p:pic>
          <p:nvPicPr>
            <p:cNvPr id="182" name="Freeform 16" descr=""/>
            <p:cNvPicPr/>
            <p:nvPr/>
          </p:nvPicPr>
          <p:blipFill>
            <a:blip r:embed="rId3"/>
            <a:stretch/>
          </p:blipFill>
          <p:spPr>
            <a:xfrm>
              <a:off x="4621320" y="1951200"/>
              <a:ext cx="166356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683240" y="1984320"/>
              <a:ext cx="15494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Web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Emma All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Freeform 17"/>
          <p:cNvGrpSpPr/>
          <p:nvPr/>
        </p:nvGrpSpPr>
        <p:grpSpPr>
          <a:xfrm>
            <a:off x="2779560" y="3048120"/>
            <a:ext cx="1670040" cy="890640"/>
            <a:chOff x="2779560" y="3048120"/>
            <a:chExt cx="1670040" cy="890640"/>
          </a:xfrm>
        </p:grpSpPr>
        <p:pic>
          <p:nvPicPr>
            <p:cNvPr id="185" name="Freeform 17" descr=""/>
            <p:cNvPicPr/>
            <p:nvPr/>
          </p:nvPicPr>
          <p:blipFill>
            <a:blip r:embed="rId4"/>
            <a:stretch/>
          </p:blipFill>
          <p:spPr>
            <a:xfrm>
              <a:off x="2779560" y="3048120"/>
              <a:ext cx="167004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843280" y="3087720"/>
              <a:ext cx="15494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Web Continu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(vacant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Freeform 18"/>
          <p:cNvGrpSpPr/>
          <p:nvPr/>
        </p:nvGrpSpPr>
        <p:grpSpPr>
          <a:xfrm>
            <a:off x="4657680" y="3048120"/>
            <a:ext cx="1663920" cy="890640"/>
            <a:chOff x="4657680" y="3048120"/>
            <a:chExt cx="1663920" cy="890640"/>
          </a:xfrm>
        </p:grpSpPr>
        <p:pic>
          <p:nvPicPr>
            <p:cNvPr id="188" name="Freeform 18" descr=""/>
            <p:cNvPicPr/>
            <p:nvPr/>
          </p:nvPicPr>
          <p:blipFill>
            <a:blip r:embed="rId5"/>
            <a:stretch/>
          </p:blipFill>
          <p:spPr>
            <a:xfrm>
              <a:off x="4657680" y="3048120"/>
              <a:ext cx="166392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19600" y="3087720"/>
              <a:ext cx="15494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Civil Pag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hris Owe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Freeform 19"/>
          <p:cNvGrpSpPr/>
          <p:nvPr/>
        </p:nvGrpSpPr>
        <p:grpSpPr>
          <a:xfrm>
            <a:off x="2766960" y="4151160"/>
            <a:ext cx="1708200" cy="884520"/>
            <a:chOff x="2766960" y="4151160"/>
            <a:chExt cx="1708200" cy="884520"/>
          </a:xfrm>
        </p:grpSpPr>
        <p:pic>
          <p:nvPicPr>
            <p:cNvPr id="191" name="Freeform 19" descr=""/>
            <p:cNvPicPr/>
            <p:nvPr/>
          </p:nvPicPr>
          <p:blipFill>
            <a:blip r:embed="rId6"/>
            <a:stretch/>
          </p:blipFill>
          <p:spPr>
            <a:xfrm>
              <a:off x="2766960" y="4151160"/>
              <a:ext cx="170820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843280" y="4187880"/>
              <a:ext cx="15494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Digital Continu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(vacant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Freeform 20"/>
          <p:cNvGrpSpPr/>
          <p:nvPr/>
        </p:nvGrpSpPr>
        <p:grpSpPr>
          <a:xfrm>
            <a:off x="4657680" y="4151160"/>
            <a:ext cx="1663920" cy="884520"/>
            <a:chOff x="4657680" y="4151160"/>
            <a:chExt cx="1663920" cy="884520"/>
          </a:xfrm>
        </p:grpSpPr>
        <p:pic>
          <p:nvPicPr>
            <p:cNvPr id="194" name="Freeform 20" descr=""/>
            <p:cNvPicPr/>
            <p:nvPr/>
          </p:nvPicPr>
          <p:blipFill>
            <a:blip r:embed="rId7"/>
            <a:stretch/>
          </p:blipFill>
          <p:spPr>
            <a:xfrm>
              <a:off x="4657680" y="4151160"/>
              <a:ext cx="166392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4719600" y="4187880"/>
              <a:ext cx="15494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Digital Preserv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Tim Golli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Freeform 21"/>
          <p:cNvGrpSpPr/>
          <p:nvPr/>
        </p:nvGrpSpPr>
        <p:grpSpPr>
          <a:xfrm>
            <a:off x="2779560" y="5254560"/>
            <a:ext cx="1670040" cy="884160"/>
            <a:chOff x="2779560" y="5254560"/>
            <a:chExt cx="1670040" cy="884160"/>
          </a:xfrm>
        </p:grpSpPr>
        <p:pic>
          <p:nvPicPr>
            <p:cNvPr id="197" name="Freeform 21" descr=""/>
            <p:cNvPicPr/>
            <p:nvPr/>
          </p:nvPicPr>
          <p:blipFill>
            <a:blip r:embed="rId8"/>
            <a:stretch/>
          </p:blipFill>
          <p:spPr>
            <a:xfrm>
              <a:off x="2779560" y="5254560"/>
              <a:ext cx="16700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843280" y="5289480"/>
              <a:ext cx="15494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Systems Developm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Emma Bay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Freeform 22"/>
          <p:cNvGrpSpPr/>
          <p:nvPr/>
        </p:nvGrpSpPr>
        <p:grpSpPr>
          <a:xfrm>
            <a:off x="6608880" y="4133880"/>
            <a:ext cx="1663560" cy="888840"/>
            <a:chOff x="6608880" y="4133880"/>
            <a:chExt cx="1663560" cy="888840"/>
          </a:xfrm>
        </p:grpSpPr>
        <p:pic>
          <p:nvPicPr>
            <p:cNvPr id="200" name="Freeform 22" descr=""/>
            <p:cNvPicPr/>
            <p:nvPr/>
          </p:nvPicPr>
          <p:blipFill>
            <a:blip r:embed="rId9"/>
            <a:stretch/>
          </p:blipFill>
          <p:spPr>
            <a:xfrm>
              <a:off x="6608880" y="4133880"/>
              <a:ext cx="16635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665760" y="4172040"/>
              <a:ext cx="15512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cting Head of Catalogu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one Garmend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1"/>
          <p:cNvSpPr/>
          <p:nvPr/>
        </p:nvSpPr>
        <p:spPr>
          <a:xfrm>
            <a:off x="30240" y="6356520"/>
            <a:ext cx="54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ECB0-C26C-4197-BC62-E4AAC789F4B4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5"/>
          <p:cNvSpPr/>
          <p:nvPr/>
        </p:nvSpPr>
        <p:spPr>
          <a:xfrm>
            <a:off x="4349880" y="1982880"/>
            <a:ext cx="128520" cy="3703680"/>
          </a:xfrm>
          <a:custGeom>
            <a:avLst/>
            <a:gdLst>
              <a:gd name="textAreaLeft" fmla="*/ 0 w 128520"/>
              <a:gd name="textAreaRight" fmla="*/ 128880 w 128520"/>
              <a:gd name="textAreaTop" fmla="*/ 0 h 3703680"/>
              <a:gd name="textAreaBottom" fmla="*/ 3704040 h 3703680"/>
            </a:gdLst>
            <a:ahLst/>
            <a:rect l="textAreaLeft" t="textAreaTop" r="textAreaRight" b="textAreaBottom"/>
            <a:pathLst>
              <a:path w="128588" h="3703637">
                <a:moveTo>
                  <a:pt x="129691" y="0"/>
                </a:moveTo>
                <a:lnTo>
                  <a:pt x="129691" y="3703520"/>
                </a:lnTo>
                <a:lnTo>
                  <a:pt x="0" y="37035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6"/>
          <p:cNvSpPr/>
          <p:nvPr/>
        </p:nvSpPr>
        <p:spPr>
          <a:xfrm>
            <a:off x="4478400" y="1982880"/>
            <a:ext cx="284040" cy="2305080"/>
          </a:xfrm>
          <a:custGeom>
            <a:avLst/>
            <a:gdLst>
              <a:gd name="textAreaLeft" fmla="*/ 0 w 284040"/>
              <a:gd name="textAreaRight" fmla="*/ 284400 w 284040"/>
              <a:gd name="textAreaTop" fmla="*/ 0 h 2305080"/>
              <a:gd name="textAreaBottom" fmla="*/ 2305440 h 2305080"/>
            </a:gdLst>
            <a:ahLst/>
            <a:rect l="textAreaLeft" t="textAreaTop" r="textAreaRight" b="textAreaBottom"/>
            <a:pathLst>
              <a:path w="284162" h="2305050">
                <a:moveTo>
                  <a:pt x="0" y="0"/>
                </a:moveTo>
                <a:lnTo>
                  <a:pt x="0" y="2305179"/>
                </a:lnTo>
                <a:lnTo>
                  <a:pt x="283902" y="230517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49880" y="1982880"/>
            <a:ext cx="128520" cy="2305080"/>
          </a:xfrm>
          <a:custGeom>
            <a:avLst/>
            <a:gdLst>
              <a:gd name="textAreaLeft" fmla="*/ 0 w 128520"/>
              <a:gd name="textAreaRight" fmla="*/ 128880 w 128520"/>
              <a:gd name="textAreaTop" fmla="*/ 0 h 2305080"/>
              <a:gd name="textAreaBottom" fmla="*/ 2305440 h 2305080"/>
            </a:gdLst>
            <a:ahLst/>
            <a:rect l="textAreaLeft" t="textAreaTop" r="textAreaRight" b="textAreaBottom"/>
            <a:pathLst>
              <a:path w="128588" h="2305050">
                <a:moveTo>
                  <a:pt x="129691" y="0"/>
                </a:moveTo>
                <a:lnTo>
                  <a:pt x="129691" y="2305179"/>
                </a:lnTo>
                <a:lnTo>
                  <a:pt x="0" y="230517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8"/>
          <p:cNvSpPr/>
          <p:nvPr/>
        </p:nvSpPr>
        <p:spPr>
          <a:xfrm>
            <a:off x="4478400" y="1982880"/>
            <a:ext cx="237960" cy="904680"/>
          </a:xfrm>
          <a:custGeom>
            <a:avLst/>
            <a:gdLst>
              <a:gd name="textAreaLeft" fmla="*/ 0 w 237960"/>
              <a:gd name="textAreaRight" fmla="*/ 238320 w 23796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238125" h="904875">
                <a:moveTo>
                  <a:pt x="0" y="0"/>
                </a:moveTo>
                <a:lnTo>
                  <a:pt x="0" y="905027"/>
                </a:lnTo>
                <a:lnTo>
                  <a:pt x="237717" y="90502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9"/>
          <p:cNvSpPr/>
          <p:nvPr/>
        </p:nvSpPr>
        <p:spPr>
          <a:xfrm>
            <a:off x="4303800" y="1982880"/>
            <a:ext cx="174600" cy="904680"/>
          </a:xfrm>
          <a:custGeom>
            <a:avLst/>
            <a:gdLst>
              <a:gd name="textAreaLeft" fmla="*/ 0 w 174600"/>
              <a:gd name="textAreaRight" fmla="*/ 174960 w 17460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174625" h="904875">
                <a:moveTo>
                  <a:pt x="175875" y="0"/>
                </a:moveTo>
                <a:lnTo>
                  <a:pt x="175875" y="905027"/>
                </a:lnTo>
                <a:lnTo>
                  <a:pt x="0" y="90502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Freeform 10"/>
          <p:cNvGrpSpPr/>
          <p:nvPr/>
        </p:nvGrpSpPr>
        <p:grpSpPr>
          <a:xfrm>
            <a:off x="3535200" y="1103400"/>
            <a:ext cx="1914840" cy="933480"/>
            <a:chOff x="3535200" y="1103400"/>
            <a:chExt cx="1914840" cy="933480"/>
          </a:xfrm>
        </p:grpSpPr>
        <p:pic>
          <p:nvPicPr>
            <p:cNvPr id="209" name="Freeform 10" descr=""/>
            <p:cNvPicPr/>
            <p:nvPr/>
          </p:nvPicPr>
          <p:blipFill>
            <a:blip r:embed="rId1"/>
            <a:stretch/>
          </p:blipFill>
          <p:spPr>
            <a:xfrm>
              <a:off x="3535200" y="1103400"/>
              <a:ext cx="191484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595680" y="1141560"/>
              <a:ext cx="18003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irector of Finance and Perform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lem Broh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Freeform 11"/>
          <p:cNvGrpSpPr/>
          <p:nvPr/>
        </p:nvGrpSpPr>
        <p:grpSpPr>
          <a:xfrm>
            <a:off x="2494080" y="2444760"/>
            <a:ext cx="1912680" cy="931680"/>
            <a:chOff x="2494080" y="2444760"/>
            <a:chExt cx="1912680" cy="931680"/>
          </a:xfrm>
        </p:grpSpPr>
        <p:pic>
          <p:nvPicPr>
            <p:cNvPr id="212" name="Freeform 11" descr=""/>
            <p:cNvPicPr/>
            <p:nvPr/>
          </p:nvPicPr>
          <p:blipFill>
            <a:blip r:embed="rId2"/>
            <a:stretch/>
          </p:blipFill>
          <p:spPr>
            <a:xfrm>
              <a:off x="2494080" y="2444760"/>
              <a:ext cx="191268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2550960" y="2481120"/>
              <a:ext cx="180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Strategic Proje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lison Webs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Freeform 12"/>
          <p:cNvGrpSpPr/>
          <p:nvPr/>
        </p:nvGrpSpPr>
        <p:grpSpPr>
          <a:xfrm>
            <a:off x="4675320" y="2432160"/>
            <a:ext cx="1914480" cy="939600"/>
            <a:chOff x="4675320" y="2432160"/>
            <a:chExt cx="1914480" cy="939600"/>
          </a:xfrm>
        </p:grpSpPr>
        <p:pic>
          <p:nvPicPr>
            <p:cNvPr id="215" name="Freeform 12" descr=""/>
            <p:cNvPicPr/>
            <p:nvPr/>
          </p:nvPicPr>
          <p:blipFill>
            <a:blip r:embed="rId3"/>
            <a:stretch/>
          </p:blipFill>
          <p:spPr>
            <a:xfrm>
              <a:off x="4675320" y="2432160"/>
              <a:ext cx="19144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4735440" y="2471760"/>
              <a:ext cx="180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Procurem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andy Flatm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Freeform 13"/>
          <p:cNvGrpSpPr/>
          <p:nvPr/>
        </p:nvGrpSpPr>
        <p:grpSpPr>
          <a:xfrm>
            <a:off x="2494080" y="3852720"/>
            <a:ext cx="1912680" cy="938520"/>
            <a:chOff x="2494080" y="3852720"/>
            <a:chExt cx="1912680" cy="938520"/>
          </a:xfrm>
        </p:grpSpPr>
        <p:pic>
          <p:nvPicPr>
            <p:cNvPr id="218" name="Freeform 13" descr=""/>
            <p:cNvPicPr/>
            <p:nvPr/>
          </p:nvPicPr>
          <p:blipFill>
            <a:blip r:embed="rId4"/>
            <a:stretch/>
          </p:blipFill>
          <p:spPr>
            <a:xfrm>
              <a:off x="2494080" y="3852720"/>
              <a:ext cx="191268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2550960" y="3890880"/>
              <a:ext cx="180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orporate Performance and Planning Manag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eter Brook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Freeform 14"/>
          <p:cNvGrpSpPr/>
          <p:nvPr/>
        </p:nvGrpSpPr>
        <p:grpSpPr>
          <a:xfrm>
            <a:off x="4668840" y="3846600"/>
            <a:ext cx="1920960" cy="933480"/>
            <a:chOff x="4668840" y="3846600"/>
            <a:chExt cx="1920960" cy="933480"/>
          </a:xfrm>
        </p:grpSpPr>
        <p:pic>
          <p:nvPicPr>
            <p:cNvPr id="221" name="Freeform 14" descr=""/>
            <p:cNvPicPr/>
            <p:nvPr/>
          </p:nvPicPr>
          <p:blipFill>
            <a:blip r:embed="rId5"/>
            <a:stretch/>
          </p:blipFill>
          <p:spPr>
            <a:xfrm>
              <a:off x="4668840" y="3846600"/>
              <a:ext cx="192096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735440" y="3881520"/>
              <a:ext cx="18003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Financial Accoun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ichael Ofori-Kor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Freeform 15"/>
          <p:cNvGrpSpPr/>
          <p:nvPr/>
        </p:nvGrpSpPr>
        <p:grpSpPr>
          <a:xfrm>
            <a:off x="2494080" y="5237280"/>
            <a:ext cx="1912680" cy="931680"/>
            <a:chOff x="2494080" y="5237280"/>
            <a:chExt cx="1912680" cy="931680"/>
          </a:xfrm>
        </p:grpSpPr>
        <p:pic>
          <p:nvPicPr>
            <p:cNvPr id="224" name="Freeform 15" descr=""/>
            <p:cNvPicPr/>
            <p:nvPr/>
          </p:nvPicPr>
          <p:blipFill>
            <a:blip r:embed="rId6"/>
            <a:stretch/>
          </p:blipFill>
          <p:spPr>
            <a:xfrm>
              <a:off x="2494080" y="5237280"/>
              <a:ext cx="191268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550960" y="5270400"/>
              <a:ext cx="180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Financial Planning and 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manda Whi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Box 3"/>
          <p:cNvSpPr/>
          <p:nvPr/>
        </p:nvSpPr>
        <p:spPr>
          <a:xfrm>
            <a:off x="2752560" y="434880"/>
            <a:ext cx="32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nance and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1"/>
          <p:cNvSpPr/>
          <p:nvPr/>
        </p:nvSpPr>
        <p:spPr>
          <a:xfrm>
            <a:off x="30240" y="6356520"/>
            <a:ext cx="54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CAA5-C622-4749-8653-7A9635140646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5"/>
          <p:cNvSpPr/>
          <p:nvPr/>
        </p:nvSpPr>
        <p:spPr>
          <a:xfrm>
            <a:off x="4305240" y="1762200"/>
            <a:ext cx="222480" cy="3970440"/>
          </a:xfrm>
          <a:custGeom>
            <a:avLst/>
            <a:gdLst>
              <a:gd name="textAreaLeft" fmla="*/ 0 w 222480"/>
              <a:gd name="textAreaRight" fmla="*/ 222840 w 222480"/>
              <a:gd name="textAreaTop" fmla="*/ 0 h 3970440"/>
              <a:gd name="textAreaBottom" fmla="*/ 3970800 h 3970440"/>
            </a:gdLst>
            <a:ahLst/>
            <a:rect l="textAreaLeft" t="textAreaTop" r="textAreaRight" b="textAreaBottom"/>
            <a:pathLst>
              <a:path w="222250" h="3970338">
                <a:moveTo>
                  <a:pt x="0" y="0"/>
                </a:moveTo>
                <a:lnTo>
                  <a:pt x="0" y="3970894"/>
                </a:lnTo>
                <a:lnTo>
                  <a:pt x="220845" y="397089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6"/>
          <p:cNvSpPr/>
          <p:nvPr/>
        </p:nvSpPr>
        <p:spPr>
          <a:xfrm>
            <a:off x="4205160" y="1762200"/>
            <a:ext cx="100080" cy="3970440"/>
          </a:xfrm>
          <a:custGeom>
            <a:avLst/>
            <a:gdLst>
              <a:gd name="textAreaLeft" fmla="*/ 0 w 100080"/>
              <a:gd name="textAreaRight" fmla="*/ 100440 w 100080"/>
              <a:gd name="textAreaTop" fmla="*/ 0 h 3970440"/>
              <a:gd name="textAreaBottom" fmla="*/ 3970800 h 3970440"/>
            </a:gdLst>
            <a:ahLst/>
            <a:rect l="textAreaLeft" t="textAreaTop" r="textAreaRight" b="textAreaBottom"/>
            <a:pathLst>
              <a:path w="100012" h="3970338">
                <a:moveTo>
                  <a:pt x="100885" y="0"/>
                </a:moveTo>
                <a:lnTo>
                  <a:pt x="100885" y="3970894"/>
                </a:lnTo>
                <a:lnTo>
                  <a:pt x="0" y="397089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7"/>
          <p:cNvSpPr/>
          <p:nvPr/>
        </p:nvSpPr>
        <p:spPr>
          <a:xfrm>
            <a:off x="4305240" y="1762200"/>
            <a:ext cx="222480" cy="2882880"/>
          </a:xfrm>
          <a:custGeom>
            <a:avLst/>
            <a:gdLst>
              <a:gd name="textAreaLeft" fmla="*/ 0 w 222480"/>
              <a:gd name="textAreaRight" fmla="*/ 222840 w 222480"/>
              <a:gd name="textAreaTop" fmla="*/ 0 h 2882880"/>
              <a:gd name="textAreaBottom" fmla="*/ 2883240 h 2882880"/>
            </a:gdLst>
            <a:ahLst/>
            <a:rect l="textAreaLeft" t="textAreaTop" r="textAreaRight" b="textAreaBottom"/>
            <a:pathLst>
              <a:path w="222250" h="2882900">
                <a:moveTo>
                  <a:pt x="0" y="0"/>
                </a:moveTo>
                <a:lnTo>
                  <a:pt x="0" y="2883135"/>
                </a:lnTo>
                <a:lnTo>
                  <a:pt x="220845" y="288313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8"/>
          <p:cNvSpPr/>
          <p:nvPr/>
        </p:nvSpPr>
        <p:spPr>
          <a:xfrm>
            <a:off x="4205160" y="1762200"/>
            <a:ext cx="100080" cy="2882880"/>
          </a:xfrm>
          <a:custGeom>
            <a:avLst/>
            <a:gdLst>
              <a:gd name="textAreaLeft" fmla="*/ 0 w 100080"/>
              <a:gd name="textAreaRight" fmla="*/ 100440 w 100080"/>
              <a:gd name="textAreaTop" fmla="*/ 0 h 2882880"/>
              <a:gd name="textAreaBottom" fmla="*/ 2883240 h 2882880"/>
            </a:gdLst>
            <a:ahLst/>
            <a:rect l="textAreaLeft" t="textAreaTop" r="textAreaRight" b="textAreaBottom"/>
            <a:pathLst>
              <a:path w="100012" h="2882900">
                <a:moveTo>
                  <a:pt x="100885" y="0"/>
                </a:moveTo>
                <a:lnTo>
                  <a:pt x="100885" y="2883135"/>
                </a:lnTo>
                <a:lnTo>
                  <a:pt x="0" y="288313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9"/>
          <p:cNvSpPr/>
          <p:nvPr/>
        </p:nvSpPr>
        <p:spPr>
          <a:xfrm>
            <a:off x="4305240" y="1762200"/>
            <a:ext cx="222480" cy="1795320"/>
          </a:xfrm>
          <a:custGeom>
            <a:avLst/>
            <a:gdLst>
              <a:gd name="textAreaLeft" fmla="*/ 0 w 222480"/>
              <a:gd name="textAreaRight" fmla="*/ 222840 w 222480"/>
              <a:gd name="textAreaTop" fmla="*/ 0 h 1795320"/>
              <a:gd name="textAreaBottom" fmla="*/ 1795680 h 1795320"/>
            </a:gdLst>
            <a:ahLst/>
            <a:rect l="textAreaLeft" t="textAreaTop" r="textAreaRight" b="textAreaBottom"/>
            <a:pathLst>
              <a:path w="222250" h="1795463">
                <a:moveTo>
                  <a:pt x="0" y="0"/>
                </a:moveTo>
                <a:lnTo>
                  <a:pt x="0" y="1795376"/>
                </a:lnTo>
                <a:lnTo>
                  <a:pt x="220845" y="179537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0"/>
          <p:cNvSpPr/>
          <p:nvPr/>
        </p:nvSpPr>
        <p:spPr>
          <a:xfrm>
            <a:off x="4205160" y="1762200"/>
            <a:ext cx="100080" cy="1795320"/>
          </a:xfrm>
          <a:custGeom>
            <a:avLst/>
            <a:gdLst>
              <a:gd name="textAreaLeft" fmla="*/ 0 w 100080"/>
              <a:gd name="textAreaRight" fmla="*/ 100440 w 100080"/>
              <a:gd name="textAreaTop" fmla="*/ 0 h 1795320"/>
              <a:gd name="textAreaBottom" fmla="*/ 1795680 h 1795320"/>
            </a:gdLst>
            <a:ahLst/>
            <a:rect l="textAreaLeft" t="textAreaTop" r="textAreaRight" b="textAreaBottom"/>
            <a:pathLst>
              <a:path w="100012" h="1795463">
                <a:moveTo>
                  <a:pt x="100885" y="0"/>
                </a:moveTo>
                <a:lnTo>
                  <a:pt x="100885" y="1795376"/>
                </a:lnTo>
                <a:lnTo>
                  <a:pt x="0" y="179537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305240" y="1762200"/>
            <a:ext cx="185760" cy="706320"/>
          </a:xfrm>
          <a:custGeom>
            <a:avLst/>
            <a:gdLst>
              <a:gd name="textAreaLeft" fmla="*/ 0 w 185760"/>
              <a:gd name="textAreaRight" fmla="*/ 186120 w 1857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185738" h="706438">
                <a:moveTo>
                  <a:pt x="0" y="0"/>
                </a:moveTo>
                <a:lnTo>
                  <a:pt x="0" y="706208"/>
                </a:lnTo>
                <a:lnTo>
                  <a:pt x="184919" y="70620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2"/>
          <p:cNvSpPr/>
          <p:nvPr/>
        </p:nvSpPr>
        <p:spPr>
          <a:xfrm>
            <a:off x="4168800" y="1762200"/>
            <a:ext cx="136440" cy="706320"/>
          </a:xfrm>
          <a:custGeom>
            <a:avLst/>
            <a:gdLst>
              <a:gd name="textAreaLeft" fmla="*/ 0 w 136440"/>
              <a:gd name="textAreaRight" fmla="*/ 136800 w 13644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136525" h="706438">
                <a:moveTo>
                  <a:pt x="136812" y="0"/>
                </a:moveTo>
                <a:lnTo>
                  <a:pt x="136812" y="706208"/>
                </a:lnTo>
                <a:lnTo>
                  <a:pt x="0" y="70620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Freeform 13"/>
          <p:cNvGrpSpPr/>
          <p:nvPr/>
        </p:nvGrpSpPr>
        <p:grpSpPr>
          <a:xfrm>
            <a:off x="3352680" y="969840"/>
            <a:ext cx="1920960" cy="932040"/>
            <a:chOff x="3352680" y="969840"/>
            <a:chExt cx="1920960" cy="932040"/>
          </a:xfrm>
        </p:grpSpPr>
        <p:pic>
          <p:nvPicPr>
            <p:cNvPr id="237" name="Freeform 13" descr=""/>
            <p:cNvPicPr/>
            <p:nvPr/>
          </p:nvPicPr>
          <p:blipFill>
            <a:blip r:embed="rId1"/>
            <a:stretch/>
          </p:blipFill>
          <p:spPr>
            <a:xfrm>
              <a:off x="3352680" y="969840"/>
              <a:ext cx="192096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3416400" y="1004760"/>
              <a:ext cx="180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irector of Operations and Ser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eff Jam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Freeform 14"/>
          <p:cNvGrpSpPr/>
          <p:nvPr/>
        </p:nvGrpSpPr>
        <p:grpSpPr>
          <a:xfrm>
            <a:off x="2346480" y="2030400"/>
            <a:ext cx="1914480" cy="932040"/>
            <a:chOff x="2346480" y="2030400"/>
            <a:chExt cx="1914480" cy="932040"/>
          </a:xfrm>
        </p:grpSpPr>
        <p:pic>
          <p:nvPicPr>
            <p:cNvPr id="240" name="Freeform 14" descr=""/>
            <p:cNvPicPr/>
            <p:nvPr/>
          </p:nvPicPr>
          <p:blipFill>
            <a:blip r:embed="rId2"/>
            <a:stretch/>
          </p:blipFill>
          <p:spPr>
            <a:xfrm>
              <a:off x="2346480" y="2030400"/>
              <a:ext cx="19144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406600" y="2065320"/>
              <a:ext cx="18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Collection Ca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ancy B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Freeform 15"/>
          <p:cNvGrpSpPr/>
          <p:nvPr/>
        </p:nvGrpSpPr>
        <p:grpSpPr>
          <a:xfrm>
            <a:off x="4449600" y="2017800"/>
            <a:ext cx="1914840" cy="938160"/>
            <a:chOff x="4449600" y="2017800"/>
            <a:chExt cx="1914840" cy="938160"/>
          </a:xfrm>
        </p:grpSpPr>
        <p:pic>
          <p:nvPicPr>
            <p:cNvPr id="243" name="Freeform 15" descr=""/>
            <p:cNvPicPr/>
            <p:nvPr/>
          </p:nvPicPr>
          <p:blipFill>
            <a:blip r:embed="rId3"/>
            <a:stretch/>
          </p:blipFill>
          <p:spPr>
            <a:xfrm>
              <a:off x="4449600" y="2017800"/>
              <a:ext cx="191484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510080" y="2055960"/>
              <a:ext cx="18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Securit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(Vacant)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Freeform 16"/>
          <p:cNvGrpSpPr/>
          <p:nvPr/>
        </p:nvGrpSpPr>
        <p:grpSpPr>
          <a:xfrm>
            <a:off x="2346480" y="3121200"/>
            <a:ext cx="1914480" cy="933120"/>
            <a:chOff x="2346480" y="3121200"/>
            <a:chExt cx="1914480" cy="933120"/>
          </a:xfrm>
        </p:grpSpPr>
        <p:pic>
          <p:nvPicPr>
            <p:cNvPr id="246" name="Freeform 16" descr=""/>
            <p:cNvPicPr/>
            <p:nvPr/>
          </p:nvPicPr>
          <p:blipFill>
            <a:blip r:embed="rId4"/>
            <a:stretch/>
          </p:blipFill>
          <p:spPr>
            <a:xfrm>
              <a:off x="2346480" y="3121200"/>
              <a:ext cx="191448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2406600" y="3154320"/>
              <a:ext cx="18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Education and Outrea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ndrew Pay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Freeform 17"/>
          <p:cNvGrpSpPr/>
          <p:nvPr/>
        </p:nvGrpSpPr>
        <p:grpSpPr>
          <a:xfrm>
            <a:off x="4432320" y="3108240"/>
            <a:ext cx="1949400" cy="933480"/>
            <a:chOff x="4432320" y="3108240"/>
            <a:chExt cx="1949400" cy="933480"/>
          </a:xfrm>
        </p:grpSpPr>
        <p:pic>
          <p:nvPicPr>
            <p:cNvPr id="249" name="Freeform 17" descr=""/>
            <p:cNvPicPr/>
            <p:nvPr/>
          </p:nvPicPr>
          <p:blipFill>
            <a:blip r:embed="rId5"/>
            <a:stretch/>
          </p:blipFill>
          <p:spPr>
            <a:xfrm>
              <a:off x="4432320" y="3108240"/>
              <a:ext cx="194940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510080" y="3144960"/>
              <a:ext cx="18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Estates and Facili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aul Dav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Freeform 18"/>
          <p:cNvGrpSpPr/>
          <p:nvPr/>
        </p:nvGrpSpPr>
        <p:grpSpPr>
          <a:xfrm>
            <a:off x="2346480" y="4194000"/>
            <a:ext cx="1914480" cy="938520"/>
            <a:chOff x="2346480" y="4194000"/>
            <a:chExt cx="1914480" cy="938520"/>
          </a:xfrm>
        </p:grpSpPr>
        <p:pic>
          <p:nvPicPr>
            <p:cNvPr id="252" name="Freeform 18" descr=""/>
            <p:cNvPicPr/>
            <p:nvPr/>
          </p:nvPicPr>
          <p:blipFill>
            <a:blip r:embed="rId6"/>
            <a:stretch/>
          </p:blipFill>
          <p:spPr>
            <a:xfrm>
              <a:off x="2346480" y="4194000"/>
              <a:ext cx="191448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406600" y="4233960"/>
              <a:ext cx="18003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Public Services Developm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ee Oli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Freeform 19"/>
          <p:cNvGrpSpPr/>
          <p:nvPr/>
        </p:nvGrpSpPr>
        <p:grpSpPr>
          <a:xfrm>
            <a:off x="4449600" y="4170240"/>
            <a:ext cx="1932120" cy="932040"/>
            <a:chOff x="4449600" y="4170240"/>
            <a:chExt cx="1932120" cy="932040"/>
          </a:xfrm>
        </p:grpSpPr>
        <p:pic>
          <p:nvPicPr>
            <p:cNvPr id="255" name="Freeform 19" descr=""/>
            <p:cNvPicPr/>
            <p:nvPr/>
          </p:nvPicPr>
          <p:blipFill>
            <a:blip r:embed="rId7"/>
            <a:stretch/>
          </p:blipFill>
          <p:spPr>
            <a:xfrm>
              <a:off x="4449600" y="4170240"/>
              <a:ext cx="1932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510080" y="4205160"/>
              <a:ext cx="180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Directorate Planning &amp; Secur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hris Coo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Freeform 20"/>
          <p:cNvGrpSpPr/>
          <p:nvPr/>
        </p:nvGrpSpPr>
        <p:grpSpPr>
          <a:xfrm>
            <a:off x="2346480" y="5254560"/>
            <a:ext cx="1914480" cy="933480"/>
            <a:chOff x="2346480" y="5254560"/>
            <a:chExt cx="1914480" cy="933480"/>
          </a:xfrm>
        </p:grpSpPr>
        <p:pic>
          <p:nvPicPr>
            <p:cNvPr id="258" name="Freeform 20" descr=""/>
            <p:cNvPicPr/>
            <p:nvPr/>
          </p:nvPicPr>
          <p:blipFill>
            <a:blip r:embed="rId8"/>
            <a:stretch/>
          </p:blipFill>
          <p:spPr>
            <a:xfrm>
              <a:off x="2346480" y="5254560"/>
              <a:ext cx="191448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2406600" y="5292720"/>
              <a:ext cx="180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Document Ser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Tom Greg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Freeform 21"/>
          <p:cNvGrpSpPr/>
          <p:nvPr/>
        </p:nvGrpSpPr>
        <p:grpSpPr>
          <a:xfrm>
            <a:off x="4449600" y="5254560"/>
            <a:ext cx="1920960" cy="933480"/>
            <a:chOff x="4449600" y="5254560"/>
            <a:chExt cx="1920960" cy="933480"/>
          </a:xfrm>
        </p:grpSpPr>
        <p:pic>
          <p:nvPicPr>
            <p:cNvPr id="261" name="Freeform 21" descr=""/>
            <p:cNvPicPr/>
            <p:nvPr/>
          </p:nvPicPr>
          <p:blipFill>
            <a:blip r:embed="rId9"/>
            <a:stretch/>
          </p:blipFill>
          <p:spPr>
            <a:xfrm>
              <a:off x="4449600" y="5254560"/>
              <a:ext cx="192096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510080" y="5292720"/>
              <a:ext cx="180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Advice and Records Knowled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ackie Marfle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Box 3"/>
          <p:cNvSpPr/>
          <p:nvPr/>
        </p:nvSpPr>
        <p:spPr>
          <a:xfrm>
            <a:off x="2752560" y="434880"/>
            <a:ext cx="32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1"/>
          <p:cNvSpPr/>
          <p:nvPr/>
        </p:nvSpPr>
        <p:spPr>
          <a:xfrm>
            <a:off x="30240" y="6356520"/>
            <a:ext cx="54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1F89-D760-4ED3-9E82-F1D8177C9557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5"/>
          <p:cNvSpPr/>
          <p:nvPr/>
        </p:nvSpPr>
        <p:spPr>
          <a:xfrm>
            <a:off x="4478400" y="1633680"/>
            <a:ext cx="191880" cy="4016160"/>
          </a:xfrm>
          <a:custGeom>
            <a:avLst/>
            <a:gdLst>
              <a:gd name="textAreaLeft" fmla="*/ 0 w 191880"/>
              <a:gd name="textAreaRight" fmla="*/ 192240 w 191880"/>
              <a:gd name="textAreaTop" fmla="*/ 0 h 4016160"/>
              <a:gd name="textAreaBottom" fmla="*/ 4016520 h 4016160"/>
            </a:gdLst>
            <a:ahLst/>
            <a:rect l="textAreaLeft" t="textAreaTop" r="textAreaRight" b="textAreaBottom"/>
            <a:pathLst>
              <a:path w="192087" h="4016375">
                <a:moveTo>
                  <a:pt x="0" y="0"/>
                </a:moveTo>
                <a:lnTo>
                  <a:pt x="0" y="4017266"/>
                </a:lnTo>
                <a:lnTo>
                  <a:pt x="193369" y="401726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7"/>
          <p:cNvSpPr/>
          <p:nvPr/>
        </p:nvSpPr>
        <p:spPr>
          <a:xfrm>
            <a:off x="4478400" y="1633680"/>
            <a:ext cx="222120" cy="2916000"/>
          </a:xfrm>
          <a:custGeom>
            <a:avLst/>
            <a:gdLst>
              <a:gd name="textAreaLeft" fmla="*/ 0 w 222120"/>
              <a:gd name="textAreaRight" fmla="*/ 222480 w 222120"/>
              <a:gd name="textAreaTop" fmla="*/ 0 h 2916000"/>
              <a:gd name="textAreaBottom" fmla="*/ 2916360 h 2916000"/>
            </a:gdLst>
            <a:ahLst/>
            <a:rect l="textAreaLeft" t="textAreaTop" r="textAreaRight" b="textAreaBottom"/>
            <a:pathLst>
              <a:path w="222250" h="2916237">
                <a:moveTo>
                  <a:pt x="0" y="0"/>
                </a:moveTo>
                <a:lnTo>
                  <a:pt x="0" y="2916373"/>
                </a:lnTo>
                <a:lnTo>
                  <a:pt x="223512" y="291637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8"/>
          <p:cNvSpPr/>
          <p:nvPr/>
        </p:nvSpPr>
        <p:spPr>
          <a:xfrm>
            <a:off x="4336920" y="1633680"/>
            <a:ext cx="141480" cy="2916000"/>
          </a:xfrm>
          <a:custGeom>
            <a:avLst/>
            <a:gdLst>
              <a:gd name="textAreaLeft" fmla="*/ 0 w 141480"/>
              <a:gd name="textAreaRight" fmla="*/ 141840 w 141480"/>
              <a:gd name="textAreaTop" fmla="*/ 0 h 2916000"/>
              <a:gd name="textAreaBottom" fmla="*/ 2916360 h 2916000"/>
            </a:gdLst>
            <a:ahLst/>
            <a:rect l="textAreaLeft" t="textAreaTop" r="textAreaRight" b="textAreaBottom"/>
            <a:pathLst>
              <a:path w="141288" h="2916237">
                <a:moveTo>
                  <a:pt x="140185" y="0"/>
                </a:moveTo>
                <a:lnTo>
                  <a:pt x="140185" y="2916373"/>
                </a:lnTo>
                <a:lnTo>
                  <a:pt x="0" y="291637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9"/>
          <p:cNvSpPr/>
          <p:nvPr/>
        </p:nvSpPr>
        <p:spPr>
          <a:xfrm>
            <a:off x="4478400" y="1633680"/>
            <a:ext cx="222120" cy="1814400"/>
          </a:xfrm>
          <a:custGeom>
            <a:avLst/>
            <a:gdLst>
              <a:gd name="textAreaLeft" fmla="*/ 0 w 222120"/>
              <a:gd name="textAreaRight" fmla="*/ 222480 w 222120"/>
              <a:gd name="textAreaTop" fmla="*/ 0 h 1814400"/>
              <a:gd name="textAreaBottom" fmla="*/ 1814760 h 1814400"/>
            </a:gdLst>
            <a:ahLst/>
            <a:rect l="textAreaLeft" t="textAreaTop" r="textAreaRight" b="textAreaBottom"/>
            <a:pathLst>
              <a:path w="222250" h="1814512">
                <a:moveTo>
                  <a:pt x="0" y="0"/>
                </a:moveTo>
                <a:lnTo>
                  <a:pt x="0" y="1815479"/>
                </a:lnTo>
                <a:lnTo>
                  <a:pt x="223512" y="181547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0"/>
          <p:cNvSpPr/>
          <p:nvPr/>
        </p:nvSpPr>
        <p:spPr>
          <a:xfrm>
            <a:off x="4375080" y="1633680"/>
            <a:ext cx="103320" cy="1814400"/>
          </a:xfrm>
          <a:custGeom>
            <a:avLst/>
            <a:gdLst>
              <a:gd name="textAreaLeft" fmla="*/ 0 w 103320"/>
              <a:gd name="textAreaRight" fmla="*/ 103680 w 103320"/>
              <a:gd name="textAreaTop" fmla="*/ 0 h 1814400"/>
              <a:gd name="textAreaBottom" fmla="*/ 1814760 h 1814400"/>
            </a:gdLst>
            <a:ahLst/>
            <a:rect l="textAreaLeft" t="textAreaTop" r="textAreaRight" b="textAreaBottom"/>
            <a:pathLst>
              <a:path w="103188" h="1814512">
                <a:moveTo>
                  <a:pt x="102104" y="0"/>
                </a:moveTo>
                <a:lnTo>
                  <a:pt x="102104" y="1815479"/>
                </a:lnTo>
                <a:lnTo>
                  <a:pt x="0" y="181547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11"/>
          <p:cNvSpPr/>
          <p:nvPr/>
        </p:nvSpPr>
        <p:spPr>
          <a:xfrm>
            <a:off x="4478400" y="1633680"/>
            <a:ext cx="185760" cy="712800"/>
          </a:xfrm>
          <a:custGeom>
            <a:avLst/>
            <a:gdLst>
              <a:gd name="textAreaLeft" fmla="*/ 0 w 185760"/>
              <a:gd name="textAreaRight" fmla="*/ 186120 w 1857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85737" h="712787">
                <a:moveTo>
                  <a:pt x="0" y="0"/>
                </a:moveTo>
                <a:lnTo>
                  <a:pt x="0" y="713158"/>
                </a:lnTo>
                <a:lnTo>
                  <a:pt x="187151" y="71315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12"/>
          <p:cNvSpPr/>
          <p:nvPr/>
        </p:nvSpPr>
        <p:spPr>
          <a:xfrm>
            <a:off x="4338720" y="1633680"/>
            <a:ext cx="139680" cy="712800"/>
          </a:xfrm>
          <a:custGeom>
            <a:avLst/>
            <a:gdLst>
              <a:gd name="textAreaLeft" fmla="*/ 0 w 139680"/>
              <a:gd name="textAreaRight" fmla="*/ 140040 w 13968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39700" h="712787">
                <a:moveTo>
                  <a:pt x="138464" y="0"/>
                </a:moveTo>
                <a:lnTo>
                  <a:pt x="138464" y="713158"/>
                </a:lnTo>
                <a:lnTo>
                  <a:pt x="0" y="71315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Freeform 13"/>
          <p:cNvGrpSpPr/>
          <p:nvPr/>
        </p:nvGrpSpPr>
        <p:grpSpPr>
          <a:xfrm>
            <a:off x="3638520" y="822240"/>
            <a:ext cx="1671840" cy="884160"/>
            <a:chOff x="3638520" y="822240"/>
            <a:chExt cx="1671840" cy="884160"/>
          </a:xfrm>
        </p:grpSpPr>
        <p:pic>
          <p:nvPicPr>
            <p:cNvPr id="273" name="Freeform 13" descr=""/>
            <p:cNvPicPr/>
            <p:nvPr/>
          </p:nvPicPr>
          <p:blipFill>
            <a:blip r:embed="rId1"/>
            <a:stretch/>
          </p:blipFill>
          <p:spPr>
            <a:xfrm>
              <a:off x="3638520" y="822240"/>
              <a:ext cx="16718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701880" y="857160"/>
              <a:ext cx="1551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irector of Information Policy and Ser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arol Tull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Freeform 14"/>
          <p:cNvGrpSpPr/>
          <p:nvPr/>
        </p:nvGrpSpPr>
        <p:grpSpPr>
          <a:xfrm>
            <a:off x="2719440" y="1920960"/>
            <a:ext cx="1779480" cy="882720"/>
            <a:chOff x="2719440" y="1920960"/>
            <a:chExt cx="1779480" cy="882720"/>
          </a:xfrm>
        </p:grpSpPr>
        <p:pic>
          <p:nvPicPr>
            <p:cNvPr id="276" name="Freeform 14" descr=""/>
            <p:cNvPicPr/>
            <p:nvPr/>
          </p:nvPicPr>
          <p:blipFill>
            <a:blip r:embed="rId2"/>
            <a:stretch/>
          </p:blipFill>
          <p:spPr>
            <a:xfrm>
              <a:off x="2719440" y="1920960"/>
              <a:ext cx="1779480" cy="8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2825640" y="1959120"/>
              <a:ext cx="15494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Information Management and Practic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ulia Stock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Freeform 15"/>
          <p:cNvGrpSpPr/>
          <p:nvPr/>
        </p:nvGrpSpPr>
        <p:grpSpPr>
          <a:xfrm>
            <a:off x="4602240" y="1920960"/>
            <a:ext cx="1670040" cy="882720"/>
            <a:chOff x="4602240" y="1920960"/>
            <a:chExt cx="1670040" cy="882720"/>
          </a:xfrm>
        </p:grpSpPr>
        <p:pic>
          <p:nvPicPr>
            <p:cNvPr id="279" name="Freeform 15" descr=""/>
            <p:cNvPicPr/>
            <p:nvPr/>
          </p:nvPicPr>
          <p:blipFill>
            <a:blip r:embed="rId3"/>
            <a:stretch/>
          </p:blipFill>
          <p:spPr>
            <a:xfrm>
              <a:off x="4602240" y="1920960"/>
              <a:ext cx="1670040" cy="8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4664160" y="1959120"/>
              <a:ext cx="15508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Standard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arcia Jacks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Freeform 16"/>
          <p:cNvGrpSpPr/>
          <p:nvPr/>
        </p:nvGrpSpPr>
        <p:grpSpPr>
          <a:xfrm>
            <a:off x="2719440" y="3024360"/>
            <a:ext cx="1760400" cy="882360"/>
            <a:chOff x="2719440" y="3024360"/>
            <a:chExt cx="1760400" cy="882360"/>
          </a:xfrm>
        </p:grpSpPr>
        <p:pic>
          <p:nvPicPr>
            <p:cNvPr id="282" name="Freeform 16" descr=""/>
            <p:cNvPicPr/>
            <p:nvPr/>
          </p:nvPicPr>
          <p:blipFill>
            <a:blip r:embed="rId4"/>
            <a:stretch/>
          </p:blipFill>
          <p:spPr>
            <a:xfrm>
              <a:off x="2719440" y="3024360"/>
              <a:ext cx="1760400" cy="88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825640" y="3060720"/>
              <a:ext cx="15494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Information Poli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im Wreth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Freeform 17"/>
          <p:cNvGrpSpPr/>
          <p:nvPr/>
        </p:nvGrpSpPr>
        <p:grpSpPr>
          <a:xfrm>
            <a:off x="4602240" y="3024360"/>
            <a:ext cx="1670040" cy="882360"/>
            <a:chOff x="4602240" y="3024360"/>
            <a:chExt cx="1670040" cy="882360"/>
          </a:xfrm>
        </p:grpSpPr>
        <p:pic>
          <p:nvPicPr>
            <p:cNvPr id="285" name="Freeform 17" descr=""/>
            <p:cNvPicPr/>
            <p:nvPr/>
          </p:nvPicPr>
          <p:blipFill>
            <a:blip r:embed="rId5"/>
            <a:stretch/>
          </p:blipFill>
          <p:spPr>
            <a:xfrm>
              <a:off x="4602240" y="3024360"/>
              <a:ext cx="1670040" cy="88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664160" y="3060720"/>
              <a:ext cx="15508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Legislation Ser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ohn Sherid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Freeform 19"/>
          <p:cNvGrpSpPr/>
          <p:nvPr/>
        </p:nvGrpSpPr>
        <p:grpSpPr>
          <a:xfrm>
            <a:off x="4602240" y="4127400"/>
            <a:ext cx="1670040" cy="882720"/>
            <a:chOff x="4602240" y="4127400"/>
            <a:chExt cx="1670040" cy="882720"/>
          </a:xfrm>
        </p:grpSpPr>
        <p:pic>
          <p:nvPicPr>
            <p:cNvPr id="288" name="Freeform 19" descr=""/>
            <p:cNvPicPr/>
            <p:nvPr/>
          </p:nvPicPr>
          <p:blipFill>
            <a:blip r:embed="rId6"/>
            <a:stretch/>
          </p:blipFill>
          <p:spPr>
            <a:xfrm>
              <a:off x="4602240" y="4127400"/>
              <a:ext cx="1670040" cy="8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4664160" y="4160880"/>
              <a:ext cx="15508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search Manag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al Johns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Freeform 20"/>
          <p:cNvGrpSpPr/>
          <p:nvPr/>
        </p:nvGrpSpPr>
        <p:grpSpPr>
          <a:xfrm>
            <a:off x="2743200" y="4237200"/>
            <a:ext cx="1670040" cy="888840"/>
            <a:chOff x="2743200" y="4237200"/>
            <a:chExt cx="1670040" cy="888840"/>
          </a:xfrm>
        </p:grpSpPr>
        <p:pic>
          <p:nvPicPr>
            <p:cNvPr id="291" name="Freeform 20" descr=""/>
            <p:cNvPicPr/>
            <p:nvPr/>
          </p:nvPicPr>
          <p:blipFill>
            <a:blip r:embed="rId7"/>
            <a:stretch/>
          </p:blipFill>
          <p:spPr>
            <a:xfrm>
              <a:off x="2743200" y="4237200"/>
              <a:ext cx="167004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2806560" y="4275000"/>
              <a:ext cx="1551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Archive Sector Develop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ick Kingsle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Freeform 21"/>
          <p:cNvGrpSpPr/>
          <p:nvPr/>
        </p:nvGrpSpPr>
        <p:grpSpPr>
          <a:xfrm>
            <a:off x="4559400" y="5224320"/>
            <a:ext cx="1817640" cy="884520"/>
            <a:chOff x="4559400" y="5224320"/>
            <a:chExt cx="1817640" cy="884520"/>
          </a:xfrm>
        </p:grpSpPr>
        <p:pic>
          <p:nvPicPr>
            <p:cNvPr id="294" name="Freeform 21" descr=""/>
            <p:cNvPicPr/>
            <p:nvPr/>
          </p:nvPicPr>
          <p:blipFill>
            <a:blip r:embed="rId8"/>
            <a:stretch/>
          </p:blipFill>
          <p:spPr>
            <a:xfrm>
              <a:off x="4559400" y="5224320"/>
              <a:ext cx="181764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4664160" y="5262480"/>
              <a:ext cx="15872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Business Planning and Perform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Box 3"/>
          <p:cNvSpPr/>
          <p:nvPr/>
        </p:nvSpPr>
        <p:spPr>
          <a:xfrm>
            <a:off x="2752560" y="434880"/>
            <a:ext cx="32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ormation Policy and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0:59:08Z</dcterms:created>
  <dc:creator>Authorised User</dc:creator>
  <dc:description/>
  <dc:language>en-US</dc:language>
  <cp:lastModifiedBy>Authorised User</cp:lastModifiedBy>
  <dcterms:modified xsi:type="dcterms:W3CDTF">2012-03-13T08:42:25Z</dcterms:modified>
  <cp:revision>5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bjective-Caveats">
    <vt:lpwstr> </vt:lpwstr>
  </property>
  <property fmtid="{D5CDD505-2E9C-101B-9397-08002B2CF9AE}" pid="3" name="Objective-Classification">
    <vt:lpwstr>[Inherited - none]</vt:lpwstr>
  </property>
  <property fmtid="{D5CDD505-2E9C-101B-9397-08002B2CF9AE}" pid="4" name="Objective-Comment">
    <vt:lpwstr> </vt:lpwstr>
  </property>
  <property fmtid="{D5CDD505-2E9C-101B-9397-08002B2CF9AE}" pid="5" name="Objective-CreationStamp">
    <vt:filetime>2010-06-11T15:16:24Z</vt:filetime>
  </property>
  <property fmtid="{D5CDD505-2E9C-101B-9397-08002B2CF9AE}" pid="6" name="Objective-Creators Organisation [system]">
    <vt:lpwstr>The National Archives</vt:lpwstr>
  </property>
  <property fmtid="{D5CDD505-2E9C-101B-9397-08002B2CF9AE}" pid="7" name="Objective-DatePublished">
    <vt:filetime>2010-06-11T15:17:05Z</vt:filetime>
  </property>
  <property fmtid="{D5CDD505-2E9C-101B-9397-08002B2CF9AE}" pid="8" name="Objective-Disclosable under FOI [system]">
    <vt:lpwstr>Not specified</vt:lpwstr>
  </property>
  <property fmtid="{D5CDD505-2E9C-101B-9397-08002B2CF9AE}" pid="9" name="Objective-Disclosed to the data subject [system]">
    <vt:lpwstr>No</vt:lpwstr>
  </property>
  <property fmtid="{D5CDD505-2E9C-101B-9397-08002B2CF9AE}" pid="10" name="Objective-FOI exemptions [system]">
    <vt:lpwstr> </vt:lpwstr>
  </property>
  <property fmtid="{D5CDD505-2E9C-101B-9397-08002B2CF9AE}" pid="11" name="Objective-FileNumber">
    <vt:lpwstr> </vt:lpwstr>
  </property>
  <property fmtid="{D5CDD505-2E9C-101B-9397-08002B2CF9AE}" pid="12" name="Objective-Id">
    <vt:lpwstr>A2210509</vt:lpwstr>
  </property>
  <property fmtid="{D5CDD505-2E9C-101B-9397-08002B2CF9AE}" pid="13" name="Objective-If Yes identify reference [system]">
    <vt:lpwstr> </vt:lpwstr>
  </property>
  <property fmtid="{D5CDD505-2E9C-101B-9397-08002B2CF9AE}" pid="14" name="Objective-Intranet Content [system]">
    <vt:lpwstr>False</vt:lpwstr>
  </property>
  <property fmtid="{D5CDD505-2E9C-101B-9397-08002B2CF9AE}" pid="15" name="Objective-IsApproved">
    <vt:bool>0</vt:bool>
  </property>
  <property fmtid="{D5CDD505-2E9C-101B-9397-08002B2CF9AE}" pid="16" name="Objective-IsPublished">
    <vt:bool>1</vt:bool>
  </property>
  <property fmtid="{D5CDD505-2E9C-101B-9397-08002B2CF9AE}" pid="17" name="Objective-ModificationStamp">
    <vt:filetime>2010-06-11T15:17:06Z</vt:filetime>
  </property>
  <property fmtid="{D5CDD505-2E9C-101B-9397-08002B2CF9AE}" pid="18" name="Objective-Owner">
    <vt:lpwstr>Jacqui Bailie</vt:lpwstr>
  </property>
  <property fmtid="{D5CDD505-2E9C-101B-9397-08002B2CF9AE}" pid="19" name="Objective-Parent">
    <vt:lpwstr>HoDs org charts</vt:lpwstr>
  </property>
  <property fmtid="{D5CDD505-2E9C-101B-9397-08002B2CF9AE}" pid="20" name="Objective-Path">
    <vt:lpwstr>File Plan:Human Resources:Reports:Staff in Post:HoDs org charts:</vt:lpwstr>
  </property>
  <property fmtid="{D5CDD505-2E9C-101B-9397-08002B2CF9AE}" pid="21" name="Objective-Protective Marking [system]">
    <vt:lpwstr>UNCLASSIFIED</vt:lpwstr>
  </property>
  <property fmtid="{D5CDD505-2E9C-101B-9397-08002B2CF9AE}" pid="22" name="Objective-Sensitive personal data [system]">
    <vt:lpwstr>No</vt:lpwstr>
  </property>
  <property fmtid="{D5CDD505-2E9C-101B-9397-08002B2CF9AE}" pid="23" name="Objective-State">
    <vt:lpwstr>Published</vt:lpwstr>
  </property>
  <property fmtid="{D5CDD505-2E9C-101B-9397-08002B2CF9AE}" pid="24" name="Objective-TNA Department [system]">
    <vt:lpwstr>Human Resources and Organisational Development</vt:lpwstr>
  </property>
  <property fmtid="{D5CDD505-2E9C-101B-9397-08002B2CF9AE}" pid="25" name="Objective-Title">
    <vt:lpwstr>HoDs Org Chart June 2010</vt:lpwstr>
  </property>
  <property fmtid="{D5CDD505-2E9C-101B-9397-08002B2CF9AE}" pid="26" name="Objective-Version">
    <vt:lpwstr>1.0</vt:lpwstr>
  </property>
  <property fmtid="{D5CDD505-2E9C-101B-9397-08002B2CF9AE}" pid="27" name="Objective-VersionComment">
    <vt:lpwstr>Version 2</vt:lpwstr>
  </property>
  <property fmtid="{D5CDD505-2E9C-101B-9397-08002B2CF9AE}" pid="28" name="Objective-VersionNumber">
    <vt:r8>2</vt:r8>
  </property>
</Properties>
</file>