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C4E-700B-4081-A5EA-7433D2448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9C7-231E-4B75-BE6F-B5A6076B1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7878-2ACD-4AFA-BC10-B2FD74BD4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EFE5-8778-4E6B-A358-0A91EF5BB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85A7-C1FD-40E3-BACE-42F7BEE3D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876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9053-1A14-460C-B0C9-29014A6E0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4FC9-11C0-49D9-9252-F6515036D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7781-C5B1-4519-80AC-DCE073311D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0F59-12D5-4EEF-A9C0-4CA2ED5F0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2EC4-005A-4AE4-9EEC-F3E42FC5F9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7516-3970-4EDA-872B-40F745F35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8760" y="303120"/>
            <a:ext cx="8643960" cy="22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B298-EBCC-4DDF-80DD-3C31C19E5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0769-622A-4E6E-AB2E-48543E467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DC3E-F2B3-4A87-B473-C5EBC85E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368E-6AAE-4F91-B838-C1E84E155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3F7F-CB32-4CE9-A4D6-D3FFE9C5A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6277-683A-4536-B439-8492C74BC2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73E4-E62C-46C0-869F-BB73D14C89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160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080" y="105228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876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160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4080" y="3621960"/>
            <a:ext cx="27831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2287-BDB8-472B-AA0B-B9DF1FFCE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6460-3895-47F0-B15A-4398F099C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FEDD-4CC7-431A-B480-90E8B7B28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2F70-F8F9-4EB3-8C54-857115838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760" y="303120"/>
            <a:ext cx="8643960" cy="22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E142-EE05-4DCA-A8C3-A821B5146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033E-875B-4C5D-88DD-1CE42128A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2196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8307-8872-49CF-9618-7176633EF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760" y="255600"/>
            <a:ext cx="864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876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052280"/>
            <a:ext cx="421812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8760" y="3621960"/>
            <a:ext cx="86439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DE82-2FF7-4701-B4D6-0A88D2FCA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6107040"/>
            <a:ext cx="9144000" cy="71640"/>
          </a:xfrm>
          <a:prstGeom prst="rect">
            <a:avLst/>
          </a:prstGeom>
          <a:gradFill rotWithShape="0">
            <a:gsLst>
              <a:gs pos="0">
                <a:srgbClr val="cc333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8760" y="303120"/>
            <a:ext cx="8643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E4C8-3B64-443C-982D-831C4A2B3761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6107040"/>
            <a:ext cx="9144000" cy="71640"/>
          </a:xfrm>
          <a:prstGeom prst="rect">
            <a:avLst/>
          </a:prstGeom>
          <a:gradFill rotWithShape="0">
            <a:gsLst>
              <a:gs pos="0">
                <a:srgbClr val="cc3333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357960" y="6299280"/>
            <a:ext cx="2519280" cy="392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8760" y="303120"/>
            <a:ext cx="86439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8760" y="1052280"/>
            <a:ext cx="864396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E54A-6A7D-4440-AC9E-35F5768F286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84120" y="2392200"/>
            <a:ext cx="835992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4"/>
          <p:cNvSpPr/>
          <p:nvPr/>
        </p:nvSpPr>
        <p:spPr>
          <a:xfrm>
            <a:off x="4572000" y="2712960"/>
            <a:ext cx="3695760" cy="2016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695700" h="201612">
                <a:moveTo>
                  <a:pt x="0" y="0"/>
                </a:moveTo>
                <a:lnTo>
                  <a:pt x="0" y="100700"/>
                </a:lnTo>
                <a:lnTo>
                  <a:pt x="3696375" y="100700"/>
                </a:lnTo>
                <a:lnTo>
                  <a:pt x="3696375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4572000" y="2712960"/>
            <a:ext cx="2405160" cy="20160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405063" h="201612">
                <a:moveTo>
                  <a:pt x="0" y="0"/>
                </a:moveTo>
                <a:lnTo>
                  <a:pt x="0" y="100700"/>
                </a:lnTo>
                <a:lnTo>
                  <a:pt x="2404963" y="100700"/>
                </a:lnTo>
                <a:lnTo>
                  <a:pt x="2404963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4572000" y="2712960"/>
            <a:ext cx="1181160" cy="2016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81100" h="201612">
                <a:moveTo>
                  <a:pt x="0" y="0"/>
                </a:moveTo>
                <a:lnTo>
                  <a:pt x="0" y="100700"/>
                </a:lnTo>
                <a:lnTo>
                  <a:pt x="1181442" y="100700"/>
                </a:lnTo>
                <a:lnTo>
                  <a:pt x="1181442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7"/>
          <p:cNvSpPr/>
          <p:nvPr/>
        </p:nvSpPr>
        <p:spPr>
          <a:xfrm>
            <a:off x="4525920" y="271296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2075" h="201612">
                <a:moveTo>
                  <a:pt x="45720" y="0"/>
                </a:moveTo>
                <a:lnTo>
                  <a:pt x="45720" y="100700"/>
                </a:lnTo>
                <a:lnTo>
                  <a:pt x="89016" y="100700"/>
                </a:lnTo>
                <a:lnTo>
                  <a:pt x="89016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8"/>
          <p:cNvSpPr/>
          <p:nvPr/>
        </p:nvSpPr>
        <p:spPr>
          <a:xfrm>
            <a:off x="3456000" y="2712960"/>
            <a:ext cx="1116000" cy="2016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116012" h="201612">
                <a:moveTo>
                  <a:pt x="1115430" y="0"/>
                </a:moveTo>
                <a:lnTo>
                  <a:pt x="1115430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9"/>
          <p:cNvSpPr/>
          <p:nvPr/>
        </p:nvSpPr>
        <p:spPr>
          <a:xfrm>
            <a:off x="2222640" y="2712960"/>
            <a:ext cx="2349360" cy="201600"/>
          </a:xfrm>
          <a:custGeom>
            <a:avLst/>
            <a:gdLst>
              <a:gd name="textAreaLeft" fmla="*/ 0 w 2349360"/>
              <a:gd name="textAreaRight" fmla="*/ 2349720 w 23493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349500" h="201612">
                <a:moveTo>
                  <a:pt x="2348848" y="0"/>
                </a:moveTo>
                <a:lnTo>
                  <a:pt x="2348848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909720" y="2712960"/>
            <a:ext cx="3662280" cy="201600"/>
          </a:xfrm>
          <a:custGeom>
            <a:avLst/>
            <a:gdLst>
              <a:gd name="textAreaLeft" fmla="*/ 0 w 3662280"/>
              <a:gd name="textAreaRight" fmla="*/ 3662640 w 3662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662362" h="201612">
                <a:moveTo>
                  <a:pt x="3662976" y="0"/>
                </a:moveTo>
                <a:lnTo>
                  <a:pt x="3662976" y="100700"/>
                </a:lnTo>
                <a:lnTo>
                  <a:pt x="0" y="100700"/>
                </a:lnTo>
                <a:lnTo>
                  <a:pt x="0" y="20140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Freeform 11"/>
          <p:cNvGrpSpPr/>
          <p:nvPr/>
        </p:nvGrpSpPr>
        <p:grpSpPr>
          <a:xfrm>
            <a:off x="3943440" y="1511280"/>
            <a:ext cx="1268280" cy="1262160"/>
            <a:chOff x="3943440" y="1511280"/>
            <a:chExt cx="1268280" cy="1262160"/>
          </a:xfrm>
        </p:grpSpPr>
        <p:pic>
          <p:nvPicPr>
            <p:cNvPr id="100" name="Freeform 11" descr=""/>
            <p:cNvPicPr/>
            <p:nvPr/>
          </p:nvPicPr>
          <p:blipFill>
            <a:blip r:embed="rId1"/>
            <a:stretch/>
          </p:blipFill>
          <p:spPr>
            <a:xfrm>
              <a:off x="3943440" y="151128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03560" y="1550880"/>
              <a:ext cx="115272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hief Execu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Oliver Morle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Freeform 12"/>
          <p:cNvGrpSpPr/>
          <p:nvPr/>
        </p:nvGrpSpPr>
        <p:grpSpPr>
          <a:xfrm>
            <a:off x="262080" y="2876400"/>
            <a:ext cx="1268280" cy="1262160"/>
            <a:chOff x="262080" y="2876400"/>
            <a:chExt cx="1268280" cy="1262160"/>
          </a:xfrm>
        </p:grpSpPr>
        <p:pic>
          <p:nvPicPr>
            <p:cNvPr id="103" name="Freeform 12" descr=""/>
            <p:cNvPicPr/>
            <p:nvPr/>
          </p:nvPicPr>
          <p:blipFill>
            <a:blip r:embed="rId2"/>
            <a:stretch/>
          </p:blipFill>
          <p:spPr>
            <a:xfrm>
              <a:off x="26208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4000" y="2914560"/>
              <a:ext cx="11509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Human Resources and Organisational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roline Ottaway-Sear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Freeform 13"/>
          <p:cNvGrpSpPr/>
          <p:nvPr/>
        </p:nvGrpSpPr>
        <p:grpSpPr>
          <a:xfrm>
            <a:off x="1487520" y="2876400"/>
            <a:ext cx="1268280" cy="1262160"/>
            <a:chOff x="1487520" y="2876400"/>
            <a:chExt cx="1268280" cy="1262160"/>
          </a:xfrm>
        </p:grpSpPr>
        <p:pic>
          <p:nvPicPr>
            <p:cNvPr id="106" name="Freeform 13" descr=""/>
            <p:cNvPicPr/>
            <p:nvPr/>
          </p:nvPicPr>
          <p:blipFill>
            <a:blip r:embed="rId3"/>
            <a:stretch/>
          </p:blipFill>
          <p:spPr>
            <a:xfrm>
              <a:off x="148752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550880" y="2914560"/>
              <a:ext cx="11509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Customer and Business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Mary Gledhi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Freeform 14"/>
          <p:cNvGrpSpPr/>
          <p:nvPr/>
        </p:nvGrpSpPr>
        <p:grpSpPr>
          <a:xfrm>
            <a:off x="2719440" y="2876400"/>
            <a:ext cx="1266840" cy="1262160"/>
            <a:chOff x="2719440" y="2876400"/>
            <a:chExt cx="1266840" cy="1262160"/>
          </a:xfrm>
        </p:grpSpPr>
        <p:pic>
          <p:nvPicPr>
            <p:cNvPr id="109" name="Freeform 14" descr=""/>
            <p:cNvPicPr/>
            <p:nvPr/>
          </p:nvPicPr>
          <p:blipFill>
            <a:blip r:embed="rId4"/>
            <a:stretch/>
          </p:blipFill>
          <p:spPr>
            <a:xfrm>
              <a:off x="2719440" y="2876400"/>
              <a:ext cx="1266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77812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Technolo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avid Thom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Freeform 15"/>
          <p:cNvGrpSpPr/>
          <p:nvPr/>
        </p:nvGrpSpPr>
        <p:grpSpPr>
          <a:xfrm>
            <a:off x="3943440" y="2876400"/>
            <a:ext cx="1274760" cy="1262160"/>
            <a:chOff x="3943440" y="2876400"/>
            <a:chExt cx="1274760" cy="1262160"/>
          </a:xfrm>
        </p:grpSpPr>
        <p:pic>
          <p:nvPicPr>
            <p:cNvPr id="112" name="Freeform 15" descr=""/>
            <p:cNvPicPr/>
            <p:nvPr/>
          </p:nvPicPr>
          <p:blipFill>
            <a:blip r:embed="rId5"/>
            <a:stretch/>
          </p:blipFill>
          <p:spPr>
            <a:xfrm>
              <a:off x="3943440" y="2876400"/>
              <a:ext cx="12747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00536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Finance and Perform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lem Brohi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Freeform 16"/>
          <p:cNvGrpSpPr/>
          <p:nvPr/>
        </p:nvGrpSpPr>
        <p:grpSpPr>
          <a:xfrm>
            <a:off x="5168880" y="2876400"/>
            <a:ext cx="1268280" cy="1262160"/>
            <a:chOff x="5168880" y="2876400"/>
            <a:chExt cx="1268280" cy="1262160"/>
          </a:xfrm>
        </p:grpSpPr>
        <p:pic>
          <p:nvPicPr>
            <p:cNvPr id="115" name="Freeform 16" descr=""/>
            <p:cNvPicPr/>
            <p:nvPr/>
          </p:nvPicPr>
          <p:blipFill>
            <a:blip r:embed="rId6"/>
            <a:stretch/>
          </p:blipFill>
          <p:spPr>
            <a:xfrm>
              <a:off x="516888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232240" y="2914560"/>
              <a:ext cx="1152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Operations and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Jeff Jam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Freeform 17"/>
          <p:cNvGrpSpPr/>
          <p:nvPr/>
        </p:nvGrpSpPr>
        <p:grpSpPr>
          <a:xfrm>
            <a:off x="6400800" y="2876400"/>
            <a:ext cx="1268280" cy="1262160"/>
            <a:chOff x="6400800" y="2876400"/>
            <a:chExt cx="1268280" cy="1262160"/>
          </a:xfrm>
        </p:grpSpPr>
        <p:pic>
          <p:nvPicPr>
            <p:cNvPr id="118" name="Freeform 17" descr=""/>
            <p:cNvPicPr/>
            <p:nvPr/>
          </p:nvPicPr>
          <p:blipFill>
            <a:blip r:embed="rId7"/>
            <a:stretch/>
          </p:blipFill>
          <p:spPr>
            <a:xfrm>
              <a:off x="6400800" y="2876400"/>
              <a:ext cx="126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59480" y="2914560"/>
              <a:ext cx="11527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Director of Information Policy and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rol Tull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Freeform 18"/>
          <p:cNvGrpSpPr/>
          <p:nvPr/>
        </p:nvGrpSpPr>
        <p:grpSpPr>
          <a:xfrm>
            <a:off x="7626240" y="2876400"/>
            <a:ext cx="1268640" cy="1262160"/>
            <a:chOff x="7626240" y="2876400"/>
            <a:chExt cx="1268640" cy="1262160"/>
          </a:xfrm>
        </p:grpSpPr>
        <p:pic>
          <p:nvPicPr>
            <p:cNvPr id="121" name="Freeform 18" descr=""/>
            <p:cNvPicPr/>
            <p:nvPr/>
          </p:nvPicPr>
          <p:blipFill>
            <a:blip r:embed="rId8"/>
            <a:stretch/>
          </p:blipFill>
          <p:spPr>
            <a:xfrm>
              <a:off x="7626240" y="2876400"/>
              <a:ext cx="126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86720" y="2914560"/>
              <a:ext cx="11523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Head of Chief Executive’s Off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Julie Lenn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084-C7A7-44BC-AA86-D947BA2F628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708280" y="601560"/>
            <a:ext cx="434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man Resources and Organisation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4740120" y="2505240"/>
            <a:ext cx="2965680" cy="34596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965450" h="346075">
                <a:moveTo>
                  <a:pt x="0" y="0"/>
                </a:moveTo>
                <a:lnTo>
                  <a:pt x="0" y="173463"/>
                </a:lnTo>
                <a:lnTo>
                  <a:pt x="2964539" y="173463"/>
                </a:lnTo>
                <a:lnTo>
                  <a:pt x="2964539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4740120" y="2505240"/>
            <a:ext cx="1000440" cy="345960"/>
          </a:xfrm>
          <a:custGeom>
            <a:avLst/>
            <a:gdLst>
              <a:gd name="textAreaLeft" fmla="*/ 0 w 1000440"/>
              <a:gd name="textAreaRight" fmla="*/ 1000800 w 10004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000125" h="346075">
                <a:moveTo>
                  <a:pt x="0" y="0"/>
                </a:moveTo>
                <a:lnTo>
                  <a:pt x="0" y="173463"/>
                </a:lnTo>
                <a:lnTo>
                  <a:pt x="999481" y="173463"/>
                </a:lnTo>
                <a:lnTo>
                  <a:pt x="999481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3741840" y="2505240"/>
            <a:ext cx="998280" cy="345960"/>
          </a:xfrm>
          <a:custGeom>
            <a:avLst/>
            <a:gdLst>
              <a:gd name="textAreaLeft" fmla="*/ 0 w 998280"/>
              <a:gd name="textAreaRight" fmla="*/ 998640 w 9982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98537" h="346075">
                <a:moveTo>
                  <a:pt x="999481" y="0"/>
                </a:moveTo>
                <a:lnTo>
                  <a:pt x="999481" y="173463"/>
                </a:lnTo>
                <a:lnTo>
                  <a:pt x="0" y="173463"/>
                </a:lnTo>
                <a:lnTo>
                  <a:pt x="0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"/>
          <p:cNvSpPr/>
          <p:nvPr/>
        </p:nvSpPr>
        <p:spPr>
          <a:xfrm>
            <a:off x="1741320" y="2505240"/>
            <a:ext cx="2998800" cy="34596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998787" h="346075">
                <a:moveTo>
                  <a:pt x="2998443" y="0"/>
                </a:moveTo>
                <a:lnTo>
                  <a:pt x="2998443" y="173463"/>
                </a:lnTo>
                <a:lnTo>
                  <a:pt x="0" y="173463"/>
                </a:lnTo>
                <a:lnTo>
                  <a:pt x="0" y="3469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Freeform 9"/>
          <p:cNvGrpSpPr/>
          <p:nvPr/>
        </p:nvGrpSpPr>
        <p:grpSpPr>
          <a:xfrm>
            <a:off x="3780000" y="1639800"/>
            <a:ext cx="1968480" cy="938160"/>
            <a:chOff x="3780000" y="1639800"/>
            <a:chExt cx="1968480" cy="938160"/>
          </a:xfrm>
        </p:grpSpPr>
        <p:pic>
          <p:nvPicPr>
            <p:cNvPr id="130" name="Freeform 9" descr=""/>
            <p:cNvPicPr/>
            <p:nvPr/>
          </p:nvPicPr>
          <p:blipFill>
            <a:blip r:embed="rId1"/>
            <a:stretch/>
          </p:blipFill>
          <p:spPr>
            <a:xfrm>
              <a:off x="3780000" y="1639800"/>
              <a:ext cx="196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57760" y="1679400"/>
              <a:ext cx="18000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Human Resources and Organisational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ine Ottaway-Sear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Freeform 10"/>
          <p:cNvGrpSpPr/>
          <p:nvPr/>
        </p:nvGrpSpPr>
        <p:grpSpPr>
          <a:xfrm>
            <a:off x="804960" y="2816280"/>
            <a:ext cx="1919160" cy="933480"/>
            <a:chOff x="804960" y="2816280"/>
            <a:chExt cx="1919160" cy="933480"/>
          </a:xfrm>
        </p:grpSpPr>
        <p:pic>
          <p:nvPicPr>
            <p:cNvPr id="133" name="Freeform 10" descr=""/>
            <p:cNvPicPr/>
            <p:nvPr/>
          </p:nvPicPr>
          <p:blipFill>
            <a:blip r:embed="rId2"/>
            <a:stretch/>
          </p:blipFill>
          <p:spPr>
            <a:xfrm>
              <a:off x="804960" y="2816280"/>
              <a:ext cx="19191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68320" y="2851200"/>
              <a:ext cx="18003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Operation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cqui Bail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Freeform 11"/>
          <p:cNvGrpSpPr/>
          <p:nvPr/>
        </p:nvGrpSpPr>
        <p:grpSpPr>
          <a:xfrm>
            <a:off x="2798640" y="2816280"/>
            <a:ext cx="1913040" cy="933480"/>
            <a:chOff x="2798640" y="2816280"/>
            <a:chExt cx="1913040" cy="933480"/>
          </a:xfrm>
        </p:grpSpPr>
        <p:pic>
          <p:nvPicPr>
            <p:cNvPr id="136" name="Freeform 11" descr=""/>
            <p:cNvPicPr/>
            <p:nvPr/>
          </p:nvPicPr>
          <p:blipFill>
            <a:blip r:embed="rId3"/>
            <a:stretch/>
          </p:blipFill>
          <p:spPr>
            <a:xfrm>
              <a:off x="2798640" y="2816280"/>
              <a:ext cx="19130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7680" y="2851200"/>
              <a:ext cx="180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cruitment, Learning and Development and Staff Engagement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ne Craigie-P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Freeform 12"/>
          <p:cNvGrpSpPr/>
          <p:nvPr/>
        </p:nvGrpSpPr>
        <p:grpSpPr>
          <a:xfrm>
            <a:off x="4803840" y="2816280"/>
            <a:ext cx="1920960" cy="933480"/>
            <a:chOff x="4803840" y="2816280"/>
            <a:chExt cx="1920960" cy="933480"/>
          </a:xfrm>
        </p:grpSpPr>
        <p:pic>
          <p:nvPicPr>
            <p:cNvPr id="139" name="Freeform 12" descr=""/>
            <p:cNvPicPr/>
            <p:nvPr/>
          </p:nvPicPr>
          <p:blipFill>
            <a:blip r:embed="rId4"/>
            <a:stretch/>
          </p:blipFill>
          <p:spPr>
            <a:xfrm>
              <a:off x="4803840" y="281628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65760" y="2851200"/>
              <a:ext cx="18000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Business Part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si Kpegl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Freeform 13"/>
          <p:cNvGrpSpPr/>
          <p:nvPr/>
        </p:nvGrpSpPr>
        <p:grpSpPr>
          <a:xfrm>
            <a:off x="6772320" y="2816280"/>
            <a:ext cx="1914480" cy="933480"/>
            <a:chOff x="6772320" y="2816280"/>
            <a:chExt cx="1914480" cy="933480"/>
          </a:xfrm>
        </p:grpSpPr>
        <p:pic>
          <p:nvPicPr>
            <p:cNvPr id="142" name="Freeform 13" descr=""/>
            <p:cNvPicPr/>
            <p:nvPr/>
          </p:nvPicPr>
          <p:blipFill>
            <a:blip r:embed="rId5"/>
            <a:stretch/>
          </p:blipFill>
          <p:spPr>
            <a:xfrm>
              <a:off x="6772320" y="2816280"/>
              <a:ext cx="19144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831000" y="2851200"/>
              <a:ext cx="18003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R Business Part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rah Stew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E0EB-66F8-487B-B2A0-D15EB53CE05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577960" y="420840"/>
            <a:ext cx="43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and Business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4100400" y="2359080"/>
            <a:ext cx="181080" cy="2841480"/>
          </a:xfrm>
          <a:custGeom>
            <a:avLst/>
            <a:gdLst>
              <a:gd name="textAreaLeft" fmla="*/ 0 w 181080"/>
              <a:gd name="textAreaRight" fmla="*/ 181440 w 181080"/>
              <a:gd name="textAreaTop" fmla="*/ 0 h 2841480"/>
              <a:gd name="textAreaBottom" fmla="*/ 2841840 h 2841480"/>
            </a:gdLst>
            <a:ahLst/>
            <a:rect l="textAreaLeft" t="textAreaTop" r="textAreaRight" b="textAreaBottom"/>
            <a:pathLst>
              <a:path w="180975" h="2841625">
                <a:moveTo>
                  <a:pt x="180594" y="0"/>
                </a:moveTo>
                <a:lnTo>
                  <a:pt x="180594" y="2841098"/>
                </a:lnTo>
                <a:lnTo>
                  <a:pt x="0" y="284109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4281480" y="2359080"/>
            <a:ext cx="328680" cy="1117440"/>
          </a:xfrm>
          <a:custGeom>
            <a:avLst/>
            <a:gdLst>
              <a:gd name="textAreaLeft" fmla="*/ 0 w 328680"/>
              <a:gd name="textAreaRight" fmla="*/ 329040 w 3286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328612" h="1117600">
                <a:moveTo>
                  <a:pt x="0" y="0"/>
                </a:moveTo>
                <a:lnTo>
                  <a:pt x="0" y="1117215"/>
                </a:lnTo>
                <a:lnTo>
                  <a:pt x="329285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4100400" y="2359080"/>
            <a:ext cx="181080" cy="11174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80975" h="1117600">
                <a:moveTo>
                  <a:pt x="180594" y="0"/>
                </a:moveTo>
                <a:lnTo>
                  <a:pt x="180594" y="1117215"/>
                </a:lnTo>
                <a:lnTo>
                  <a:pt x="0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Freeform 8"/>
          <p:cNvGrpSpPr/>
          <p:nvPr/>
        </p:nvGrpSpPr>
        <p:grpSpPr>
          <a:xfrm>
            <a:off x="3322800" y="1487520"/>
            <a:ext cx="1914480" cy="938160"/>
            <a:chOff x="3322800" y="1487520"/>
            <a:chExt cx="1914480" cy="938160"/>
          </a:xfrm>
        </p:grpSpPr>
        <p:pic>
          <p:nvPicPr>
            <p:cNvPr id="150" name="Freeform 8" descr=""/>
            <p:cNvPicPr/>
            <p:nvPr/>
          </p:nvPicPr>
          <p:blipFill>
            <a:blip r:embed="rId1"/>
            <a:stretch/>
          </p:blipFill>
          <p:spPr>
            <a:xfrm>
              <a:off x="3322800" y="1487520"/>
              <a:ext cx="1914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382920" y="1527120"/>
              <a:ext cx="179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Customer and Business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y Gledhil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Freeform 9"/>
          <p:cNvGrpSpPr/>
          <p:nvPr/>
        </p:nvGrpSpPr>
        <p:grpSpPr>
          <a:xfrm>
            <a:off x="2255760" y="3024360"/>
            <a:ext cx="1914480" cy="931680"/>
            <a:chOff x="2255760" y="3024360"/>
            <a:chExt cx="1914480" cy="931680"/>
          </a:xfrm>
        </p:grpSpPr>
        <p:pic>
          <p:nvPicPr>
            <p:cNvPr id="153" name="Freeform 9" descr=""/>
            <p:cNvPicPr/>
            <p:nvPr/>
          </p:nvPicPr>
          <p:blipFill>
            <a:blip r:embed="rId2"/>
            <a:stretch/>
          </p:blipFill>
          <p:spPr>
            <a:xfrm>
              <a:off x="2255760" y="3024360"/>
              <a:ext cx="19144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317680" y="3060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ress Off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el H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Freeform 10"/>
          <p:cNvGrpSpPr/>
          <p:nvPr/>
        </p:nvGrpSpPr>
        <p:grpSpPr>
          <a:xfrm>
            <a:off x="4559400" y="4005360"/>
            <a:ext cx="1914480" cy="931680"/>
            <a:chOff x="4559400" y="4005360"/>
            <a:chExt cx="1914480" cy="931680"/>
          </a:xfrm>
        </p:grpSpPr>
        <p:pic>
          <p:nvPicPr>
            <p:cNvPr id="156" name="Freeform 10" descr=""/>
            <p:cNvPicPr/>
            <p:nvPr/>
          </p:nvPicPr>
          <p:blipFill>
            <a:blip r:embed="rId3"/>
            <a:stretch/>
          </p:blipFill>
          <p:spPr>
            <a:xfrm>
              <a:off x="4559400" y="4005360"/>
              <a:ext cx="19144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619520" y="4041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rategic Communications and Mark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Freeform 11"/>
          <p:cNvGrpSpPr/>
          <p:nvPr/>
        </p:nvGrpSpPr>
        <p:grpSpPr>
          <a:xfrm>
            <a:off x="2255760" y="4754520"/>
            <a:ext cx="1914480" cy="939960"/>
            <a:chOff x="2255760" y="4754520"/>
            <a:chExt cx="1914480" cy="939960"/>
          </a:xfrm>
        </p:grpSpPr>
        <p:pic>
          <p:nvPicPr>
            <p:cNvPr id="159" name="Freeform 11" descr=""/>
            <p:cNvPicPr/>
            <p:nvPr/>
          </p:nvPicPr>
          <p:blipFill>
            <a:blip r:embed="rId4"/>
            <a:stretch/>
          </p:blipFill>
          <p:spPr>
            <a:xfrm>
              <a:off x="2255760" y="4754520"/>
              <a:ext cx="191448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317680" y="47941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Licen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ine Kim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12"/>
          <p:cNvSpPr/>
          <p:nvPr/>
        </p:nvSpPr>
        <p:spPr>
          <a:xfrm>
            <a:off x="4281480" y="3387600"/>
            <a:ext cx="328680" cy="1117800"/>
          </a:xfrm>
          <a:custGeom>
            <a:avLst/>
            <a:gdLst>
              <a:gd name="textAreaLeft" fmla="*/ 0 w 328680"/>
              <a:gd name="textAreaRight" fmla="*/ 329040 w 32868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328612" h="1117600">
                <a:moveTo>
                  <a:pt x="0" y="0"/>
                </a:moveTo>
                <a:lnTo>
                  <a:pt x="0" y="1117215"/>
                </a:lnTo>
                <a:lnTo>
                  <a:pt x="329285" y="11172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Freeform 13"/>
          <p:cNvGrpSpPr/>
          <p:nvPr/>
        </p:nvGrpSpPr>
        <p:grpSpPr>
          <a:xfrm>
            <a:off x="4516560" y="2955960"/>
            <a:ext cx="1920600" cy="933480"/>
            <a:chOff x="4516560" y="2955960"/>
            <a:chExt cx="1920600" cy="933480"/>
          </a:xfrm>
        </p:grpSpPr>
        <p:pic>
          <p:nvPicPr>
            <p:cNvPr id="163" name="Freeform 13" descr=""/>
            <p:cNvPicPr/>
            <p:nvPr/>
          </p:nvPicPr>
          <p:blipFill>
            <a:blip r:embed="rId5"/>
            <a:stretch/>
          </p:blipFill>
          <p:spPr>
            <a:xfrm>
              <a:off x="4516560" y="2955960"/>
              <a:ext cx="19206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81360" y="299412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ommercial Delive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Mum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57BD-1146-45E2-9F96-846CDB465AC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906720" y="450720"/>
            <a:ext cx="109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4495680" y="1658880"/>
            <a:ext cx="2170080" cy="29005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2900520"/>
              <a:gd name="textAreaBottom" fmla="*/ 2900880 h 2900520"/>
            </a:gdLst>
            <a:ahLst/>
            <a:rect l="textAreaLeft" t="textAreaTop" r="textAreaRight" b="textAreaBottom"/>
            <a:pathLst>
              <a:path w="2170113" h="2900362">
                <a:moveTo>
                  <a:pt x="0" y="0"/>
                </a:moveTo>
                <a:lnTo>
                  <a:pt x="0" y="2900557"/>
                </a:lnTo>
                <a:lnTo>
                  <a:pt x="2170575" y="290055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4392720" y="1658880"/>
            <a:ext cx="102960" cy="4017960"/>
          </a:xfrm>
          <a:custGeom>
            <a:avLst/>
            <a:gdLst>
              <a:gd name="textAreaLeft" fmla="*/ 0 w 102960"/>
              <a:gd name="textAreaRight" fmla="*/ 103320 w 102960"/>
              <a:gd name="textAreaTop" fmla="*/ 0 h 4017960"/>
              <a:gd name="textAreaBottom" fmla="*/ 4018320 h 4017960"/>
            </a:gdLst>
            <a:ahLst/>
            <a:rect l="textAreaLeft" t="textAreaTop" r="textAreaRight" b="textAreaBottom"/>
            <a:pathLst>
              <a:path w="103187" h="4017962">
                <a:moveTo>
                  <a:pt x="102104" y="0"/>
                </a:moveTo>
                <a:lnTo>
                  <a:pt x="102104" y="4017266"/>
                </a:lnTo>
                <a:lnTo>
                  <a:pt x="0" y="401726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4495680" y="1658880"/>
            <a:ext cx="223920" cy="29163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16360"/>
              <a:gd name="textAreaBottom" fmla="*/ 2916720 h 2916360"/>
            </a:gdLst>
            <a:ahLst/>
            <a:rect l="textAreaLeft" t="textAreaTop" r="textAreaRight" b="textAreaBottom"/>
            <a:pathLst>
              <a:path w="223838" h="2916237">
                <a:moveTo>
                  <a:pt x="0" y="0"/>
                </a:moveTo>
                <a:lnTo>
                  <a:pt x="0" y="2916373"/>
                </a:lnTo>
                <a:lnTo>
                  <a:pt x="223512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"/>
          <p:cNvSpPr/>
          <p:nvPr/>
        </p:nvSpPr>
        <p:spPr>
          <a:xfrm>
            <a:off x="4392720" y="1658880"/>
            <a:ext cx="102960" cy="2916360"/>
          </a:xfrm>
          <a:custGeom>
            <a:avLst/>
            <a:gdLst>
              <a:gd name="textAreaLeft" fmla="*/ 0 w 102960"/>
              <a:gd name="textAreaRight" fmla="*/ 103320 w 102960"/>
              <a:gd name="textAreaTop" fmla="*/ 0 h 2916360"/>
              <a:gd name="textAreaBottom" fmla="*/ 2916720 h 2916360"/>
            </a:gdLst>
            <a:ahLst/>
            <a:rect l="textAreaLeft" t="textAreaTop" r="textAreaRight" b="textAreaBottom"/>
            <a:pathLst>
              <a:path w="103187" h="2916237">
                <a:moveTo>
                  <a:pt x="102104" y="0"/>
                </a:moveTo>
                <a:lnTo>
                  <a:pt x="102104" y="2916373"/>
                </a:lnTo>
                <a:lnTo>
                  <a:pt x="0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0"/>
          <p:cNvSpPr/>
          <p:nvPr/>
        </p:nvSpPr>
        <p:spPr>
          <a:xfrm>
            <a:off x="4495680" y="1658880"/>
            <a:ext cx="223920" cy="1816200"/>
          </a:xfrm>
          <a:custGeom>
            <a:avLst/>
            <a:gdLst>
              <a:gd name="textAreaLeft" fmla="*/ 0 w 223920"/>
              <a:gd name="textAreaRight" fmla="*/ 224280 w 22392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223838" h="1816100">
                <a:moveTo>
                  <a:pt x="0" y="0"/>
                </a:moveTo>
                <a:lnTo>
                  <a:pt x="0" y="1815479"/>
                </a:lnTo>
                <a:lnTo>
                  <a:pt x="223512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4392720" y="1658880"/>
            <a:ext cx="102960" cy="1816200"/>
          </a:xfrm>
          <a:custGeom>
            <a:avLst/>
            <a:gdLst>
              <a:gd name="textAreaLeft" fmla="*/ 0 w 102960"/>
              <a:gd name="textAreaRight" fmla="*/ 103320 w 1029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w="103187" h="1816100">
                <a:moveTo>
                  <a:pt x="102104" y="0"/>
                </a:moveTo>
                <a:lnTo>
                  <a:pt x="102104" y="1815479"/>
                </a:lnTo>
                <a:lnTo>
                  <a:pt x="0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4495680" y="1658880"/>
            <a:ext cx="187560" cy="712800"/>
          </a:xfrm>
          <a:custGeom>
            <a:avLst/>
            <a:gdLst>
              <a:gd name="textAreaLeft" fmla="*/ 0 w 187560"/>
              <a:gd name="textAreaRight" fmla="*/ 187920 w 1875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87325" h="712787">
                <a:moveTo>
                  <a:pt x="0" y="0"/>
                </a:moveTo>
                <a:lnTo>
                  <a:pt x="0" y="713158"/>
                </a:lnTo>
                <a:lnTo>
                  <a:pt x="187151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357800" y="1658880"/>
            <a:ext cx="137880" cy="712800"/>
          </a:xfrm>
          <a:custGeom>
            <a:avLst/>
            <a:gdLst>
              <a:gd name="textAreaLeft" fmla="*/ 0 w 137880"/>
              <a:gd name="textAreaRight" fmla="*/ 138240 w 1378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38112" h="712787">
                <a:moveTo>
                  <a:pt x="138464" y="0"/>
                </a:moveTo>
                <a:lnTo>
                  <a:pt x="138464" y="713158"/>
                </a:lnTo>
                <a:lnTo>
                  <a:pt x="0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Freeform 14"/>
          <p:cNvGrpSpPr/>
          <p:nvPr/>
        </p:nvGrpSpPr>
        <p:grpSpPr>
          <a:xfrm>
            <a:off x="3657600" y="847800"/>
            <a:ext cx="1670040" cy="884160"/>
            <a:chOff x="3657600" y="847800"/>
            <a:chExt cx="1670040" cy="884160"/>
          </a:xfrm>
        </p:grpSpPr>
        <p:pic>
          <p:nvPicPr>
            <p:cNvPr id="176" name="Freeform 14" descr=""/>
            <p:cNvPicPr/>
            <p:nvPr/>
          </p:nvPicPr>
          <p:blipFill>
            <a:blip r:embed="rId1"/>
            <a:stretch/>
          </p:blipFill>
          <p:spPr>
            <a:xfrm>
              <a:off x="3657600" y="847800"/>
              <a:ext cx="1670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719520" y="88416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Technolo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avid Th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Freeform 15"/>
          <p:cNvGrpSpPr/>
          <p:nvPr/>
        </p:nvGrpSpPr>
        <p:grpSpPr>
          <a:xfrm>
            <a:off x="2743200" y="1951200"/>
            <a:ext cx="1676520" cy="884160"/>
            <a:chOff x="2743200" y="1951200"/>
            <a:chExt cx="1676520" cy="884160"/>
          </a:xfrm>
        </p:grpSpPr>
        <p:pic>
          <p:nvPicPr>
            <p:cNvPr id="179" name="Freeform 15" descr=""/>
            <p:cNvPicPr/>
            <p:nvPr/>
          </p:nvPicPr>
          <p:blipFill>
            <a:blip r:embed="rId2"/>
            <a:stretch/>
          </p:blipFill>
          <p:spPr>
            <a:xfrm>
              <a:off x="2743200" y="1951200"/>
              <a:ext cx="167652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06560" y="198432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and Computer Technolog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manda Spenc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Freeform 16"/>
          <p:cNvGrpSpPr/>
          <p:nvPr/>
        </p:nvGrpSpPr>
        <p:grpSpPr>
          <a:xfrm>
            <a:off x="4621320" y="1951200"/>
            <a:ext cx="1663560" cy="884160"/>
            <a:chOff x="4621320" y="1951200"/>
            <a:chExt cx="1663560" cy="884160"/>
          </a:xfrm>
        </p:grpSpPr>
        <p:pic>
          <p:nvPicPr>
            <p:cNvPr id="182" name="Freeform 16" descr=""/>
            <p:cNvPicPr/>
            <p:nvPr/>
          </p:nvPicPr>
          <p:blipFill>
            <a:blip r:embed="rId3"/>
            <a:stretch/>
          </p:blipFill>
          <p:spPr>
            <a:xfrm>
              <a:off x="4621320" y="1951200"/>
              <a:ext cx="16635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683240" y="1984320"/>
              <a:ext cx="15494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Web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mma Al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Freeform 17"/>
          <p:cNvGrpSpPr/>
          <p:nvPr/>
        </p:nvGrpSpPr>
        <p:grpSpPr>
          <a:xfrm>
            <a:off x="2779560" y="3048120"/>
            <a:ext cx="1670040" cy="890640"/>
            <a:chOff x="2779560" y="3048120"/>
            <a:chExt cx="1670040" cy="890640"/>
          </a:xfrm>
        </p:grpSpPr>
        <p:pic>
          <p:nvPicPr>
            <p:cNvPr id="185" name="Freeform 17" descr=""/>
            <p:cNvPicPr/>
            <p:nvPr/>
          </p:nvPicPr>
          <p:blipFill>
            <a:blip r:embed="rId4"/>
            <a:stretch/>
          </p:blipFill>
          <p:spPr>
            <a:xfrm>
              <a:off x="2779560" y="3048120"/>
              <a:ext cx="1670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843280" y="3087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Web Continu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Freeform 18"/>
          <p:cNvGrpSpPr/>
          <p:nvPr/>
        </p:nvGrpSpPr>
        <p:grpSpPr>
          <a:xfrm>
            <a:off x="4657680" y="3048120"/>
            <a:ext cx="1663920" cy="890640"/>
            <a:chOff x="4657680" y="3048120"/>
            <a:chExt cx="1663920" cy="890640"/>
          </a:xfrm>
        </p:grpSpPr>
        <p:pic>
          <p:nvPicPr>
            <p:cNvPr id="188" name="Freeform 18" descr=""/>
            <p:cNvPicPr/>
            <p:nvPr/>
          </p:nvPicPr>
          <p:blipFill>
            <a:blip r:embed="rId5"/>
            <a:stretch/>
          </p:blipFill>
          <p:spPr>
            <a:xfrm>
              <a:off x="4657680" y="3048120"/>
              <a:ext cx="16639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19600" y="3087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ivil Pa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Ow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Freeform 19"/>
          <p:cNvGrpSpPr/>
          <p:nvPr/>
        </p:nvGrpSpPr>
        <p:grpSpPr>
          <a:xfrm>
            <a:off x="2766960" y="4151160"/>
            <a:ext cx="1708200" cy="884520"/>
            <a:chOff x="2766960" y="4151160"/>
            <a:chExt cx="1708200" cy="884520"/>
          </a:xfrm>
        </p:grpSpPr>
        <p:pic>
          <p:nvPicPr>
            <p:cNvPr id="191" name="Freeform 19" descr=""/>
            <p:cNvPicPr/>
            <p:nvPr/>
          </p:nvPicPr>
          <p:blipFill>
            <a:blip r:embed="rId6"/>
            <a:stretch/>
          </p:blipFill>
          <p:spPr>
            <a:xfrm>
              <a:off x="2766960" y="4151160"/>
              <a:ext cx="170820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843280" y="41878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gital Continu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Freeform 20"/>
          <p:cNvGrpSpPr/>
          <p:nvPr/>
        </p:nvGrpSpPr>
        <p:grpSpPr>
          <a:xfrm>
            <a:off x="4657680" y="4151160"/>
            <a:ext cx="1663920" cy="884520"/>
            <a:chOff x="4657680" y="4151160"/>
            <a:chExt cx="1663920" cy="884520"/>
          </a:xfrm>
        </p:grpSpPr>
        <p:pic>
          <p:nvPicPr>
            <p:cNvPr id="194" name="Freeform 20" descr=""/>
            <p:cNvPicPr/>
            <p:nvPr/>
          </p:nvPicPr>
          <p:blipFill>
            <a:blip r:embed="rId7"/>
            <a:stretch/>
          </p:blipFill>
          <p:spPr>
            <a:xfrm>
              <a:off x="4657680" y="4151160"/>
              <a:ext cx="16639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719600" y="41878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gital Preserv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im Goll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Freeform 21"/>
          <p:cNvGrpSpPr/>
          <p:nvPr/>
        </p:nvGrpSpPr>
        <p:grpSpPr>
          <a:xfrm>
            <a:off x="2779560" y="5254560"/>
            <a:ext cx="1670040" cy="884160"/>
            <a:chOff x="2779560" y="5254560"/>
            <a:chExt cx="1670040" cy="884160"/>
          </a:xfrm>
        </p:grpSpPr>
        <p:pic>
          <p:nvPicPr>
            <p:cNvPr id="197" name="Freeform 21" descr=""/>
            <p:cNvPicPr/>
            <p:nvPr/>
          </p:nvPicPr>
          <p:blipFill>
            <a:blip r:embed="rId8"/>
            <a:stretch/>
          </p:blipFill>
          <p:spPr>
            <a:xfrm>
              <a:off x="2779560" y="5254560"/>
              <a:ext cx="1670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843280" y="528948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ystems 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mma B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Freeform 22"/>
          <p:cNvGrpSpPr/>
          <p:nvPr/>
        </p:nvGrpSpPr>
        <p:grpSpPr>
          <a:xfrm>
            <a:off x="6608880" y="4133880"/>
            <a:ext cx="1663560" cy="888840"/>
            <a:chOff x="6608880" y="4133880"/>
            <a:chExt cx="1663560" cy="888840"/>
          </a:xfrm>
        </p:grpSpPr>
        <p:pic>
          <p:nvPicPr>
            <p:cNvPr id="200" name="Freeform 22" descr=""/>
            <p:cNvPicPr/>
            <p:nvPr/>
          </p:nvPicPr>
          <p:blipFill>
            <a:blip r:embed="rId9"/>
            <a:stretch/>
          </p:blipFill>
          <p:spPr>
            <a:xfrm>
              <a:off x="6608880" y="4133880"/>
              <a:ext cx="1663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665760" y="4172040"/>
              <a:ext cx="15512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cting Head of Catalogu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ne Garmen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504-495C-4492-9671-49EB0861870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4349880" y="1982880"/>
            <a:ext cx="128520" cy="3703680"/>
          </a:xfrm>
          <a:custGeom>
            <a:avLst/>
            <a:gdLst>
              <a:gd name="textAreaLeft" fmla="*/ 0 w 128520"/>
              <a:gd name="textAreaRight" fmla="*/ 128880 w 128520"/>
              <a:gd name="textAreaTop" fmla="*/ 0 h 3703680"/>
              <a:gd name="textAreaBottom" fmla="*/ 3704040 h 3703680"/>
            </a:gdLst>
            <a:ahLst/>
            <a:rect l="textAreaLeft" t="textAreaTop" r="textAreaRight" b="textAreaBottom"/>
            <a:pathLst>
              <a:path w="128588" h="3703637">
                <a:moveTo>
                  <a:pt x="129691" y="0"/>
                </a:moveTo>
                <a:lnTo>
                  <a:pt x="129691" y="3703520"/>
                </a:lnTo>
                <a:lnTo>
                  <a:pt x="0" y="37035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4478400" y="1982880"/>
            <a:ext cx="284040" cy="2305080"/>
          </a:xfrm>
          <a:custGeom>
            <a:avLst/>
            <a:gdLst>
              <a:gd name="textAreaLeft" fmla="*/ 0 w 284040"/>
              <a:gd name="textAreaRight" fmla="*/ 284400 w 28404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284162" h="2305050">
                <a:moveTo>
                  <a:pt x="0" y="0"/>
                </a:moveTo>
                <a:lnTo>
                  <a:pt x="0" y="2305179"/>
                </a:lnTo>
                <a:lnTo>
                  <a:pt x="283902" y="2305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49880" y="1982880"/>
            <a:ext cx="128520" cy="2305080"/>
          </a:xfrm>
          <a:custGeom>
            <a:avLst/>
            <a:gdLst>
              <a:gd name="textAreaLeft" fmla="*/ 0 w 128520"/>
              <a:gd name="textAreaRight" fmla="*/ 128880 w 12852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28588" h="2305050">
                <a:moveTo>
                  <a:pt x="129691" y="0"/>
                </a:moveTo>
                <a:lnTo>
                  <a:pt x="129691" y="2305179"/>
                </a:lnTo>
                <a:lnTo>
                  <a:pt x="0" y="2305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4478400" y="1982880"/>
            <a:ext cx="237960" cy="904680"/>
          </a:xfrm>
          <a:custGeom>
            <a:avLst/>
            <a:gdLst>
              <a:gd name="textAreaLeft" fmla="*/ 0 w 237960"/>
              <a:gd name="textAreaRight" fmla="*/ 238320 w 2379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38125" h="904875">
                <a:moveTo>
                  <a:pt x="0" y="0"/>
                </a:moveTo>
                <a:lnTo>
                  <a:pt x="0" y="905027"/>
                </a:lnTo>
                <a:lnTo>
                  <a:pt x="237717" y="9050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4303800" y="1982880"/>
            <a:ext cx="174600" cy="904680"/>
          </a:xfrm>
          <a:custGeom>
            <a:avLst/>
            <a:gdLst>
              <a:gd name="textAreaLeft" fmla="*/ 0 w 174600"/>
              <a:gd name="textAreaRight" fmla="*/ 174960 w 1746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174625" h="904875">
                <a:moveTo>
                  <a:pt x="175875" y="0"/>
                </a:moveTo>
                <a:lnTo>
                  <a:pt x="175875" y="905027"/>
                </a:lnTo>
                <a:lnTo>
                  <a:pt x="0" y="90502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Freeform 10"/>
          <p:cNvGrpSpPr/>
          <p:nvPr/>
        </p:nvGrpSpPr>
        <p:grpSpPr>
          <a:xfrm>
            <a:off x="3535200" y="1103400"/>
            <a:ext cx="1914840" cy="933480"/>
            <a:chOff x="3535200" y="1103400"/>
            <a:chExt cx="1914840" cy="933480"/>
          </a:xfrm>
        </p:grpSpPr>
        <p:pic>
          <p:nvPicPr>
            <p:cNvPr id="209" name="Freeform 10" descr=""/>
            <p:cNvPicPr/>
            <p:nvPr/>
          </p:nvPicPr>
          <p:blipFill>
            <a:blip r:embed="rId1"/>
            <a:stretch/>
          </p:blipFill>
          <p:spPr>
            <a:xfrm>
              <a:off x="3535200" y="1103400"/>
              <a:ext cx="19148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595680" y="114156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Finance and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lem Broh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Freeform 11"/>
          <p:cNvGrpSpPr/>
          <p:nvPr/>
        </p:nvGrpSpPr>
        <p:grpSpPr>
          <a:xfrm>
            <a:off x="2494080" y="2444760"/>
            <a:ext cx="1912680" cy="931680"/>
            <a:chOff x="2494080" y="2444760"/>
            <a:chExt cx="1912680" cy="931680"/>
          </a:xfrm>
        </p:grpSpPr>
        <p:pic>
          <p:nvPicPr>
            <p:cNvPr id="212" name="Freeform 11" descr=""/>
            <p:cNvPicPr/>
            <p:nvPr/>
          </p:nvPicPr>
          <p:blipFill>
            <a:blip r:embed="rId2"/>
            <a:stretch/>
          </p:blipFill>
          <p:spPr>
            <a:xfrm>
              <a:off x="2494080" y="2444760"/>
              <a:ext cx="19126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550960" y="24811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rategic Proj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lison Web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Freeform 12"/>
          <p:cNvGrpSpPr/>
          <p:nvPr/>
        </p:nvGrpSpPr>
        <p:grpSpPr>
          <a:xfrm>
            <a:off x="4675320" y="2432160"/>
            <a:ext cx="1914480" cy="939600"/>
            <a:chOff x="4675320" y="2432160"/>
            <a:chExt cx="1914480" cy="939600"/>
          </a:xfrm>
        </p:grpSpPr>
        <p:pic>
          <p:nvPicPr>
            <p:cNvPr id="215" name="Freeform 12" descr=""/>
            <p:cNvPicPr/>
            <p:nvPr/>
          </p:nvPicPr>
          <p:blipFill>
            <a:blip r:embed="rId3"/>
            <a:stretch/>
          </p:blipFill>
          <p:spPr>
            <a:xfrm>
              <a:off x="4675320" y="2432160"/>
              <a:ext cx="19144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735440" y="24717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rocur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andy Flat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Freeform 13"/>
          <p:cNvGrpSpPr/>
          <p:nvPr/>
        </p:nvGrpSpPr>
        <p:grpSpPr>
          <a:xfrm>
            <a:off x="2494080" y="3852720"/>
            <a:ext cx="1912680" cy="938520"/>
            <a:chOff x="2494080" y="3852720"/>
            <a:chExt cx="1912680" cy="938520"/>
          </a:xfrm>
        </p:grpSpPr>
        <p:pic>
          <p:nvPicPr>
            <p:cNvPr id="218" name="Freeform 13" descr=""/>
            <p:cNvPicPr/>
            <p:nvPr/>
          </p:nvPicPr>
          <p:blipFill>
            <a:blip r:embed="rId4"/>
            <a:stretch/>
          </p:blipFill>
          <p:spPr>
            <a:xfrm>
              <a:off x="2494080" y="3852720"/>
              <a:ext cx="191268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550960" y="389088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rporate Performance and Planning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ter Brook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Freeform 14"/>
          <p:cNvGrpSpPr/>
          <p:nvPr/>
        </p:nvGrpSpPr>
        <p:grpSpPr>
          <a:xfrm>
            <a:off x="4668840" y="3846600"/>
            <a:ext cx="1920960" cy="933480"/>
            <a:chOff x="4668840" y="3846600"/>
            <a:chExt cx="1920960" cy="933480"/>
          </a:xfrm>
        </p:grpSpPr>
        <p:pic>
          <p:nvPicPr>
            <p:cNvPr id="221" name="Freeform 14" descr=""/>
            <p:cNvPicPr/>
            <p:nvPr/>
          </p:nvPicPr>
          <p:blipFill>
            <a:blip r:embed="rId5"/>
            <a:stretch/>
          </p:blipFill>
          <p:spPr>
            <a:xfrm>
              <a:off x="4668840" y="384660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735440" y="388152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Financial Accoun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ichael Ofori-Kor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Freeform 15"/>
          <p:cNvGrpSpPr/>
          <p:nvPr/>
        </p:nvGrpSpPr>
        <p:grpSpPr>
          <a:xfrm>
            <a:off x="2494080" y="5237280"/>
            <a:ext cx="1912680" cy="931680"/>
            <a:chOff x="2494080" y="5237280"/>
            <a:chExt cx="1912680" cy="931680"/>
          </a:xfrm>
        </p:grpSpPr>
        <p:pic>
          <p:nvPicPr>
            <p:cNvPr id="224" name="Freeform 15" descr=""/>
            <p:cNvPicPr/>
            <p:nvPr/>
          </p:nvPicPr>
          <p:blipFill>
            <a:blip r:embed="rId6"/>
            <a:stretch/>
          </p:blipFill>
          <p:spPr>
            <a:xfrm>
              <a:off x="2494080" y="5237280"/>
              <a:ext cx="19126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550960" y="527040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Financial Planning and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manda Whi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e and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6F6-C2DD-48FF-AEB8-4434B4A8719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4305240" y="1762200"/>
            <a:ext cx="222480" cy="3970440"/>
          </a:xfrm>
          <a:custGeom>
            <a:avLst/>
            <a:gdLst>
              <a:gd name="textAreaLeft" fmla="*/ 0 w 222480"/>
              <a:gd name="textAreaRight" fmla="*/ 222840 w 222480"/>
              <a:gd name="textAreaTop" fmla="*/ 0 h 3970440"/>
              <a:gd name="textAreaBottom" fmla="*/ 3970800 h 3970440"/>
            </a:gdLst>
            <a:ahLst/>
            <a:rect l="textAreaLeft" t="textAreaTop" r="textAreaRight" b="textAreaBottom"/>
            <a:pathLst>
              <a:path w="222250" h="3970338">
                <a:moveTo>
                  <a:pt x="0" y="0"/>
                </a:moveTo>
                <a:lnTo>
                  <a:pt x="0" y="3970894"/>
                </a:lnTo>
                <a:lnTo>
                  <a:pt x="220845" y="39708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4205160" y="1762200"/>
            <a:ext cx="100080" cy="3970440"/>
          </a:xfrm>
          <a:custGeom>
            <a:avLst/>
            <a:gdLst>
              <a:gd name="textAreaLeft" fmla="*/ 0 w 100080"/>
              <a:gd name="textAreaRight" fmla="*/ 100440 w 100080"/>
              <a:gd name="textAreaTop" fmla="*/ 0 h 3970440"/>
              <a:gd name="textAreaBottom" fmla="*/ 3970800 h 3970440"/>
            </a:gdLst>
            <a:ahLst/>
            <a:rect l="textAreaLeft" t="textAreaTop" r="textAreaRight" b="textAreaBottom"/>
            <a:pathLst>
              <a:path w="100012" h="3970338">
                <a:moveTo>
                  <a:pt x="100885" y="0"/>
                </a:moveTo>
                <a:lnTo>
                  <a:pt x="100885" y="3970894"/>
                </a:lnTo>
                <a:lnTo>
                  <a:pt x="0" y="39708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4305240" y="1762200"/>
            <a:ext cx="222480" cy="2882880"/>
          </a:xfrm>
          <a:custGeom>
            <a:avLst/>
            <a:gdLst>
              <a:gd name="textAreaLeft" fmla="*/ 0 w 222480"/>
              <a:gd name="textAreaRight" fmla="*/ 222840 w 2224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222250" h="2882900">
                <a:moveTo>
                  <a:pt x="0" y="0"/>
                </a:moveTo>
                <a:lnTo>
                  <a:pt x="0" y="2883135"/>
                </a:lnTo>
                <a:lnTo>
                  <a:pt x="220845" y="28831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4205160" y="1762200"/>
            <a:ext cx="100080" cy="2882880"/>
          </a:xfrm>
          <a:custGeom>
            <a:avLst/>
            <a:gdLst>
              <a:gd name="textAreaLeft" fmla="*/ 0 w 100080"/>
              <a:gd name="textAreaRight" fmla="*/ 100440 w 100080"/>
              <a:gd name="textAreaTop" fmla="*/ 0 h 2882880"/>
              <a:gd name="textAreaBottom" fmla="*/ 2883240 h 2882880"/>
            </a:gdLst>
            <a:ahLst/>
            <a:rect l="textAreaLeft" t="textAreaTop" r="textAreaRight" b="textAreaBottom"/>
            <a:pathLst>
              <a:path w="100012" h="2882900">
                <a:moveTo>
                  <a:pt x="100885" y="0"/>
                </a:moveTo>
                <a:lnTo>
                  <a:pt x="100885" y="2883135"/>
                </a:lnTo>
                <a:lnTo>
                  <a:pt x="0" y="288313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4305240" y="1762200"/>
            <a:ext cx="222480" cy="1795320"/>
          </a:xfrm>
          <a:custGeom>
            <a:avLst/>
            <a:gdLst>
              <a:gd name="textAreaLeft" fmla="*/ 0 w 222480"/>
              <a:gd name="textAreaRight" fmla="*/ 222840 w 222480"/>
              <a:gd name="textAreaTop" fmla="*/ 0 h 1795320"/>
              <a:gd name="textAreaBottom" fmla="*/ 1795680 h 1795320"/>
            </a:gdLst>
            <a:ahLst/>
            <a:rect l="textAreaLeft" t="textAreaTop" r="textAreaRight" b="textAreaBottom"/>
            <a:pathLst>
              <a:path w="222250" h="1795463">
                <a:moveTo>
                  <a:pt x="0" y="0"/>
                </a:moveTo>
                <a:lnTo>
                  <a:pt x="0" y="1795376"/>
                </a:lnTo>
                <a:lnTo>
                  <a:pt x="220845" y="17953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"/>
          <p:cNvSpPr/>
          <p:nvPr/>
        </p:nvSpPr>
        <p:spPr>
          <a:xfrm>
            <a:off x="4205160" y="1762200"/>
            <a:ext cx="100080" cy="1795320"/>
          </a:xfrm>
          <a:custGeom>
            <a:avLst/>
            <a:gdLst>
              <a:gd name="textAreaLeft" fmla="*/ 0 w 100080"/>
              <a:gd name="textAreaRight" fmla="*/ 100440 w 100080"/>
              <a:gd name="textAreaTop" fmla="*/ 0 h 1795320"/>
              <a:gd name="textAreaBottom" fmla="*/ 1795680 h 1795320"/>
            </a:gdLst>
            <a:ahLst/>
            <a:rect l="textAreaLeft" t="textAreaTop" r="textAreaRight" b="textAreaBottom"/>
            <a:pathLst>
              <a:path w="100012" h="1795463">
                <a:moveTo>
                  <a:pt x="100885" y="0"/>
                </a:moveTo>
                <a:lnTo>
                  <a:pt x="100885" y="1795376"/>
                </a:lnTo>
                <a:lnTo>
                  <a:pt x="0" y="17953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305240" y="1762200"/>
            <a:ext cx="185760" cy="706320"/>
          </a:xfrm>
          <a:custGeom>
            <a:avLst/>
            <a:gdLst>
              <a:gd name="textAreaLeft" fmla="*/ 0 w 185760"/>
              <a:gd name="textAreaRight" fmla="*/ 186120 w 1857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85738" h="706438">
                <a:moveTo>
                  <a:pt x="0" y="0"/>
                </a:moveTo>
                <a:lnTo>
                  <a:pt x="0" y="706208"/>
                </a:lnTo>
                <a:lnTo>
                  <a:pt x="184919" y="7062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2"/>
          <p:cNvSpPr/>
          <p:nvPr/>
        </p:nvSpPr>
        <p:spPr>
          <a:xfrm>
            <a:off x="4168800" y="1762200"/>
            <a:ext cx="136440" cy="706320"/>
          </a:xfrm>
          <a:custGeom>
            <a:avLst/>
            <a:gdLst>
              <a:gd name="textAreaLeft" fmla="*/ 0 w 136440"/>
              <a:gd name="textAreaRight" fmla="*/ 136800 w 13644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136525" h="706438">
                <a:moveTo>
                  <a:pt x="136812" y="0"/>
                </a:moveTo>
                <a:lnTo>
                  <a:pt x="136812" y="706208"/>
                </a:lnTo>
                <a:lnTo>
                  <a:pt x="0" y="7062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Freeform 13"/>
          <p:cNvGrpSpPr/>
          <p:nvPr/>
        </p:nvGrpSpPr>
        <p:grpSpPr>
          <a:xfrm>
            <a:off x="3352680" y="969840"/>
            <a:ext cx="1920960" cy="932040"/>
            <a:chOff x="3352680" y="969840"/>
            <a:chExt cx="1920960" cy="932040"/>
          </a:xfrm>
        </p:grpSpPr>
        <p:pic>
          <p:nvPicPr>
            <p:cNvPr id="237" name="Freeform 13" descr=""/>
            <p:cNvPicPr/>
            <p:nvPr/>
          </p:nvPicPr>
          <p:blipFill>
            <a:blip r:embed="rId1"/>
            <a:stretch/>
          </p:blipFill>
          <p:spPr>
            <a:xfrm>
              <a:off x="3352680" y="969840"/>
              <a:ext cx="192096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416400" y="100476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Operations and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eff Ja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Freeform 14"/>
          <p:cNvGrpSpPr/>
          <p:nvPr/>
        </p:nvGrpSpPr>
        <p:grpSpPr>
          <a:xfrm>
            <a:off x="2346480" y="2030400"/>
            <a:ext cx="1914480" cy="932040"/>
            <a:chOff x="2346480" y="2030400"/>
            <a:chExt cx="1914480" cy="932040"/>
          </a:xfrm>
        </p:grpSpPr>
        <p:pic>
          <p:nvPicPr>
            <p:cNvPr id="240" name="Freeform 14" descr=""/>
            <p:cNvPicPr/>
            <p:nvPr/>
          </p:nvPicPr>
          <p:blipFill>
            <a:blip r:embed="rId2"/>
            <a:stretch/>
          </p:blipFill>
          <p:spPr>
            <a:xfrm>
              <a:off x="2346480" y="2030400"/>
              <a:ext cx="19144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406600" y="20653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Collection C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cy B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Freeform 15"/>
          <p:cNvGrpSpPr/>
          <p:nvPr/>
        </p:nvGrpSpPr>
        <p:grpSpPr>
          <a:xfrm>
            <a:off x="4449600" y="2017800"/>
            <a:ext cx="1914840" cy="938160"/>
            <a:chOff x="4449600" y="2017800"/>
            <a:chExt cx="1914840" cy="938160"/>
          </a:xfrm>
        </p:grpSpPr>
        <p:pic>
          <p:nvPicPr>
            <p:cNvPr id="243" name="Freeform 15" descr=""/>
            <p:cNvPicPr/>
            <p:nvPr/>
          </p:nvPicPr>
          <p:blipFill>
            <a:blip r:embed="rId3"/>
            <a:stretch/>
          </p:blipFill>
          <p:spPr>
            <a:xfrm>
              <a:off x="4449600" y="2017800"/>
              <a:ext cx="19148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10080" y="205596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ecur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(Vacant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Freeform 16"/>
          <p:cNvGrpSpPr/>
          <p:nvPr/>
        </p:nvGrpSpPr>
        <p:grpSpPr>
          <a:xfrm>
            <a:off x="2346480" y="3121200"/>
            <a:ext cx="1914480" cy="933120"/>
            <a:chOff x="2346480" y="3121200"/>
            <a:chExt cx="1914480" cy="933120"/>
          </a:xfrm>
        </p:grpSpPr>
        <p:pic>
          <p:nvPicPr>
            <p:cNvPr id="246" name="Freeform 16" descr=""/>
            <p:cNvPicPr/>
            <p:nvPr/>
          </p:nvPicPr>
          <p:blipFill>
            <a:blip r:embed="rId4"/>
            <a:stretch/>
          </p:blipFill>
          <p:spPr>
            <a:xfrm>
              <a:off x="2346480" y="3121200"/>
              <a:ext cx="191448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406600" y="31543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Education and Outrea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ndrew Pay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Freeform 17"/>
          <p:cNvGrpSpPr/>
          <p:nvPr/>
        </p:nvGrpSpPr>
        <p:grpSpPr>
          <a:xfrm>
            <a:off x="4432320" y="3108240"/>
            <a:ext cx="1949400" cy="933480"/>
            <a:chOff x="4432320" y="3108240"/>
            <a:chExt cx="1949400" cy="933480"/>
          </a:xfrm>
        </p:grpSpPr>
        <p:pic>
          <p:nvPicPr>
            <p:cNvPr id="249" name="Freeform 17" descr=""/>
            <p:cNvPicPr/>
            <p:nvPr/>
          </p:nvPicPr>
          <p:blipFill>
            <a:blip r:embed="rId5"/>
            <a:stretch/>
          </p:blipFill>
          <p:spPr>
            <a:xfrm>
              <a:off x="4432320" y="3108240"/>
              <a:ext cx="194940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510080" y="314496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Estates and Fac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aul Dav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Freeform 18"/>
          <p:cNvGrpSpPr/>
          <p:nvPr/>
        </p:nvGrpSpPr>
        <p:grpSpPr>
          <a:xfrm>
            <a:off x="2346480" y="4194000"/>
            <a:ext cx="1914480" cy="938520"/>
            <a:chOff x="2346480" y="4194000"/>
            <a:chExt cx="1914480" cy="938520"/>
          </a:xfrm>
        </p:grpSpPr>
        <p:pic>
          <p:nvPicPr>
            <p:cNvPr id="252" name="Freeform 18" descr=""/>
            <p:cNvPicPr/>
            <p:nvPr/>
          </p:nvPicPr>
          <p:blipFill>
            <a:blip r:embed="rId6"/>
            <a:stretch/>
          </p:blipFill>
          <p:spPr>
            <a:xfrm>
              <a:off x="2346480" y="4194000"/>
              <a:ext cx="191448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406600" y="4233960"/>
              <a:ext cx="1800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Public Services Develop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ee Ol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Freeform 19"/>
          <p:cNvGrpSpPr/>
          <p:nvPr/>
        </p:nvGrpSpPr>
        <p:grpSpPr>
          <a:xfrm>
            <a:off x="4449600" y="4170240"/>
            <a:ext cx="1932120" cy="932040"/>
            <a:chOff x="4449600" y="4170240"/>
            <a:chExt cx="1932120" cy="932040"/>
          </a:xfrm>
        </p:grpSpPr>
        <p:pic>
          <p:nvPicPr>
            <p:cNvPr id="255" name="Freeform 19" descr=""/>
            <p:cNvPicPr/>
            <p:nvPr/>
          </p:nvPicPr>
          <p:blipFill>
            <a:blip r:embed="rId7"/>
            <a:stretch/>
          </p:blipFill>
          <p:spPr>
            <a:xfrm>
              <a:off x="4449600" y="4170240"/>
              <a:ext cx="19321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510080" y="420516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irectorate Planning &amp; Secu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ris Co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Freeform 20"/>
          <p:cNvGrpSpPr/>
          <p:nvPr/>
        </p:nvGrpSpPr>
        <p:grpSpPr>
          <a:xfrm>
            <a:off x="2346480" y="5254560"/>
            <a:ext cx="1914480" cy="933480"/>
            <a:chOff x="2346480" y="5254560"/>
            <a:chExt cx="1914480" cy="933480"/>
          </a:xfrm>
        </p:grpSpPr>
        <p:pic>
          <p:nvPicPr>
            <p:cNvPr id="258" name="Freeform 20" descr=""/>
            <p:cNvPicPr/>
            <p:nvPr/>
          </p:nvPicPr>
          <p:blipFill>
            <a:blip r:embed="rId8"/>
            <a:stretch/>
          </p:blipFill>
          <p:spPr>
            <a:xfrm>
              <a:off x="2346480" y="5254560"/>
              <a:ext cx="19144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406600" y="5292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Document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m Greg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Freeform 21"/>
          <p:cNvGrpSpPr/>
          <p:nvPr/>
        </p:nvGrpSpPr>
        <p:grpSpPr>
          <a:xfrm>
            <a:off x="4449600" y="5254560"/>
            <a:ext cx="1920960" cy="933480"/>
            <a:chOff x="4449600" y="5254560"/>
            <a:chExt cx="1920960" cy="933480"/>
          </a:xfrm>
        </p:grpSpPr>
        <p:pic>
          <p:nvPicPr>
            <p:cNvPr id="261" name="Freeform 21" descr=""/>
            <p:cNvPicPr/>
            <p:nvPr/>
          </p:nvPicPr>
          <p:blipFill>
            <a:blip r:embed="rId9"/>
            <a:stretch/>
          </p:blipFill>
          <p:spPr>
            <a:xfrm>
              <a:off x="4449600" y="5254560"/>
              <a:ext cx="192096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10080" y="5292720"/>
              <a:ext cx="18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Advice and Records Know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ackie Marfle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30240" y="6356520"/>
            <a:ext cx="54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CF30-48FD-45DC-A696-70B40E244A6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4478400" y="1633680"/>
            <a:ext cx="191880" cy="4016160"/>
          </a:xfrm>
          <a:custGeom>
            <a:avLst/>
            <a:gdLst>
              <a:gd name="textAreaLeft" fmla="*/ 0 w 191880"/>
              <a:gd name="textAreaRight" fmla="*/ 192240 w 191880"/>
              <a:gd name="textAreaTop" fmla="*/ 0 h 4016160"/>
              <a:gd name="textAreaBottom" fmla="*/ 4016520 h 4016160"/>
            </a:gdLst>
            <a:ahLst/>
            <a:rect l="textAreaLeft" t="textAreaTop" r="textAreaRight" b="textAreaBottom"/>
            <a:pathLst>
              <a:path w="192087" h="4016375">
                <a:moveTo>
                  <a:pt x="0" y="0"/>
                </a:moveTo>
                <a:lnTo>
                  <a:pt x="0" y="4017266"/>
                </a:lnTo>
                <a:lnTo>
                  <a:pt x="193369" y="401726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4478400" y="1633680"/>
            <a:ext cx="222120" cy="2916000"/>
          </a:xfrm>
          <a:custGeom>
            <a:avLst/>
            <a:gdLst>
              <a:gd name="textAreaLeft" fmla="*/ 0 w 222120"/>
              <a:gd name="textAreaRight" fmla="*/ 222480 w 22212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222250" h="2916237">
                <a:moveTo>
                  <a:pt x="0" y="0"/>
                </a:moveTo>
                <a:lnTo>
                  <a:pt x="0" y="2916373"/>
                </a:lnTo>
                <a:lnTo>
                  <a:pt x="223512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8"/>
          <p:cNvSpPr/>
          <p:nvPr/>
        </p:nvSpPr>
        <p:spPr>
          <a:xfrm>
            <a:off x="4336920" y="1633680"/>
            <a:ext cx="141480" cy="2916000"/>
          </a:xfrm>
          <a:custGeom>
            <a:avLst/>
            <a:gdLst>
              <a:gd name="textAreaLeft" fmla="*/ 0 w 141480"/>
              <a:gd name="textAreaRight" fmla="*/ 141840 w 14148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141288" h="2916237">
                <a:moveTo>
                  <a:pt x="140185" y="0"/>
                </a:moveTo>
                <a:lnTo>
                  <a:pt x="140185" y="2916373"/>
                </a:lnTo>
                <a:lnTo>
                  <a:pt x="0" y="291637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9"/>
          <p:cNvSpPr/>
          <p:nvPr/>
        </p:nvSpPr>
        <p:spPr>
          <a:xfrm>
            <a:off x="4478400" y="1633680"/>
            <a:ext cx="222120" cy="1814400"/>
          </a:xfrm>
          <a:custGeom>
            <a:avLst/>
            <a:gdLst>
              <a:gd name="textAreaLeft" fmla="*/ 0 w 222120"/>
              <a:gd name="textAreaRight" fmla="*/ 222480 w 222120"/>
              <a:gd name="textAreaTop" fmla="*/ 0 h 1814400"/>
              <a:gd name="textAreaBottom" fmla="*/ 1814760 h 1814400"/>
            </a:gdLst>
            <a:ahLst/>
            <a:rect l="textAreaLeft" t="textAreaTop" r="textAreaRight" b="textAreaBottom"/>
            <a:pathLst>
              <a:path w="222250" h="1814512">
                <a:moveTo>
                  <a:pt x="0" y="0"/>
                </a:moveTo>
                <a:lnTo>
                  <a:pt x="0" y="1815479"/>
                </a:lnTo>
                <a:lnTo>
                  <a:pt x="223512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0"/>
          <p:cNvSpPr/>
          <p:nvPr/>
        </p:nvSpPr>
        <p:spPr>
          <a:xfrm>
            <a:off x="4375080" y="1633680"/>
            <a:ext cx="103320" cy="1814400"/>
          </a:xfrm>
          <a:custGeom>
            <a:avLst/>
            <a:gdLst>
              <a:gd name="textAreaLeft" fmla="*/ 0 w 103320"/>
              <a:gd name="textAreaRight" fmla="*/ 103680 w 103320"/>
              <a:gd name="textAreaTop" fmla="*/ 0 h 1814400"/>
              <a:gd name="textAreaBottom" fmla="*/ 1814760 h 1814400"/>
            </a:gdLst>
            <a:ahLst/>
            <a:rect l="textAreaLeft" t="textAreaTop" r="textAreaRight" b="textAreaBottom"/>
            <a:pathLst>
              <a:path w="103188" h="1814512">
                <a:moveTo>
                  <a:pt x="102104" y="0"/>
                </a:moveTo>
                <a:lnTo>
                  <a:pt x="102104" y="1815479"/>
                </a:lnTo>
                <a:lnTo>
                  <a:pt x="0" y="18154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1"/>
          <p:cNvSpPr/>
          <p:nvPr/>
        </p:nvSpPr>
        <p:spPr>
          <a:xfrm>
            <a:off x="4478400" y="1633680"/>
            <a:ext cx="185760" cy="712800"/>
          </a:xfrm>
          <a:custGeom>
            <a:avLst/>
            <a:gdLst>
              <a:gd name="textAreaLeft" fmla="*/ 0 w 185760"/>
              <a:gd name="textAreaRight" fmla="*/ 186120 w 1857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85737" h="712787">
                <a:moveTo>
                  <a:pt x="0" y="0"/>
                </a:moveTo>
                <a:lnTo>
                  <a:pt x="0" y="713158"/>
                </a:lnTo>
                <a:lnTo>
                  <a:pt x="187151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2"/>
          <p:cNvSpPr/>
          <p:nvPr/>
        </p:nvSpPr>
        <p:spPr>
          <a:xfrm>
            <a:off x="4338720" y="1633680"/>
            <a:ext cx="139680" cy="712800"/>
          </a:xfrm>
          <a:custGeom>
            <a:avLst/>
            <a:gdLst>
              <a:gd name="textAreaLeft" fmla="*/ 0 w 139680"/>
              <a:gd name="textAreaRight" fmla="*/ 140040 w 1396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39700" h="712787">
                <a:moveTo>
                  <a:pt x="138464" y="0"/>
                </a:moveTo>
                <a:lnTo>
                  <a:pt x="138464" y="713158"/>
                </a:lnTo>
                <a:lnTo>
                  <a:pt x="0" y="71315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Freeform 13"/>
          <p:cNvGrpSpPr/>
          <p:nvPr/>
        </p:nvGrpSpPr>
        <p:grpSpPr>
          <a:xfrm>
            <a:off x="3638520" y="822240"/>
            <a:ext cx="1671840" cy="884160"/>
            <a:chOff x="3638520" y="822240"/>
            <a:chExt cx="1671840" cy="884160"/>
          </a:xfrm>
        </p:grpSpPr>
        <p:pic>
          <p:nvPicPr>
            <p:cNvPr id="273" name="Freeform 13" descr=""/>
            <p:cNvPicPr/>
            <p:nvPr/>
          </p:nvPicPr>
          <p:blipFill>
            <a:blip r:embed="rId1"/>
            <a:stretch/>
          </p:blipFill>
          <p:spPr>
            <a:xfrm>
              <a:off x="3638520" y="822240"/>
              <a:ext cx="16718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701880" y="85716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irector of Information Policy and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arol Tu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reeform 14"/>
          <p:cNvGrpSpPr/>
          <p:nvPr/>
        </p:nvGrpSpPr>
        <p:grpSpPr>
          <a:xfrm>
            <a:off x="2719440" y="1920960"/>
            <a:ext cx="1779480" cy="882720"/>
            <a:chOff x="2719440" y="1920960"/>
            <a:chExt cx="1779480" cy="882720"/>
          </a:xfrm>
        </p:grpSpPr>
        <p:pic>
          <p:nvPicPr>
            <p:cNvPr id="276" name="Freeform 14" descr=""/>
            <p:cNvPicPr/>
            <p:nvPr/>
          </p:nvPicPr>
          <p:blipFill>
            <a:blip r:embed="rId2"/>
            <a:stretch/>
          </p:blipFill>
          <p:spPr>
            <a:xfrm>
              <a:off x="2719440" y="1920960"/>
              <a:ext cx="177948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825640" y="19591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Management and Pract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ulia Stock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reeform 15"/>
          <p:cNvGrpSpPr/>
          <p:nvPr/>
        </p:nvGrpSpPr>
        <p:grpSpPr>
          <a:xfrm>
            <a:off x="4602240" y="1920960"/>
            <a:ext cx="1670040" cy="882720"/>
            <a:chOff x="4602240" y="1920960"/>
            <a:chExt cx="1670040" cy="882720"/>
          </a:xfrm>
        </p:grpSpPr>
        <p:pic>
          <p:nvPicPr>
            <p:cNvPr id="279" name="Freeform 15" descr=""/>
            <p:cNvPicPr/>
            <p:nvPr/>
          </p:nvPicPr>
          <p:blipFill>
            <a:blip r:embed="rId3"/>
            <a:stretch/>
          </p:blipFill>
          <p:spPr>
            <a:xfrm>
              <a:off x="4602240" y="1920960"/>
              <a:ext cx="16700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664160" y="195912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Standard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rcia Jack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Freeform 16"/>
          <p:cNvGrpSpPr/>
          <p:nvPr/>
        </p:nvGrpSpPr>
        <p:grpSpPr>
          <a:xfrm>
            <a:off x="2719440" y="3024360"/>
            <a:ext cx="1760400" cy="882360"/>
            <a:chOff x="2719440" y="3024360"/>
            <a:chExt cx="1760400" cy="882360"/>
          </a:xfrm>
        </p:grpSpPr>
        <p:pic>
          <p:nvPicPr>
            <p:cNvPr id="282" name="Freeform 16" descr=""/>
            <p:cNvPicPr/>
            <p:nvPr/>
          </p:nvPicPr>
          <p:blipFill>
            <a:blip r:embed="rId4"/>
            <a:stretch/>
          </p:blipFill>
          <p:spPr>
            <a:xfrm>
              <a:off x="2719440" y="3024360"/>
              <a:ext cx="1760400" cy="8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825640" y="3060720"/>
              <a:ext cx="15494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Information Poli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im Wreth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Freeform 17"/>
          <p:cNvGrpSpPr/>
          <p:nvPr/>
        </p:nvGrpSpPr>
        <p:grpSpPr>
          <a:xfrm>
            <a:off x="4602240" y="3024360"/>
            <a:ext cx="1670040" cy="882360"/>
            <a:chOff x="4602240" y="3024360"/>
            <a:chExt cx="1670040" cy="882360"/>
          </a:xfrm>
        </p:grpSpPr>
        <p:pic>
          <p:nvPicPr>
            <p:cNvPr id="285" name="Freeform 17" descr=""/>
            <p:cNvPicPr/>
            <p:nvPr/>
          </p:nvPicPr>
          <p:blipFill>
            <a:blip r:embed="rId5"/>
            <a:stretch/>
          </p:blipFill>
          <p:spPr>
            <a:xfrm>
              <a:off x="4602240" y="3024360"/>
              <a:ext cx="1670040" cy="88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664160" y="3060720"/>
              <a:ext cx="1550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Legislation 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hn Sherid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Freeform 19"/>
          <p:cNvGrpSpPr/>
          <p:nvPr/>
        </p:nvGrpSpPr>
        <p:grpSpPr>
          <a:xfrm>
            <a:off x="4602240" y="4127400"/>
            <a:ext cx="1670040" cy="882720"/>
            <a:chOff x="4602240" y="4127400"/>
            <a:chExt cx="1670040" cy="882720"/>
          </a:xfrm>
        </p:grpSpPr>
        <p:pic>
          <p:nvPicPr>
            <p:cNvPr id="288" name="Freeform 19" descr=""/>
            <p:cNvPicPr/>
            <p:nvPr/>
          </p:nvPicPr>
          <p:blipFill>
            <a:blip r:embed="rId6"/>
            <a:stretch/>
          </p:blipFill>
          <p:spPr>
            <a:xfrm>
              <a:off x="4602240" y="4127400"/>
              <a:ext cx="167004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664160" y="4160880"/>
              <a:ext cx="15508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esearch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al John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Freeform 20"/>
          <p:cNvGrpSpPr/>
          <p:nvPr/>
        </p:nvGrpSpPr>
        <p:grpSpPr>
          <a:xfrm>
            <a:off x="2743200" y="4237200"/>
            <a:ext cx="1670040" cy="888840"/>
            <a:chOff x="2743200" y="4237200"/>
            <a:chExt cx="1670040" cy="888840"/>
          </a:xfrm>
        </p:grpSpPr>
        <p:pic>
          <p:nvPicPr>
            <p:cNvPr id="291" name="Freeform 20" descr=""/>
            <p:cNvPicPr/>
            <p:nvPr/>
          </p:nvPicPr>
          <p:blipFill>
            <a:blip r:embed="rId7"/>
            <a:stretch/>
          </p:blipFill>
          <p:spPr>
            <a:xfrm>
              <a:off x="2743200" y="4237200"/>
              <a:ext cx="16700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806560" y="4275000"/>
              <a:ext cx="1551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Archive Sector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ick Kingsl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Freeform 21"/>
          <p:cNvGrpSpPr/>
          <p:nvPr/>
        </p:nvGrpSpPr>
        <p:grpSpPr>
          <a:xfrm>
            <a:off x="4559400" y="5224320"/>
            <a:ext cx="1817640" cy="884520"/>
            <a:chOff x="4559400" y="5224320"/>
            <a:chExt cx="1817640" cy="884520"/>
          </a:xfrm>
        </p:grpSpPr>
        <p:pic>
          <p:nvPicPr>
            <p:cNvPr id="294" name="Freeform 21" descr=""/>
            <p:cNvPicPr/>
            <p:nvPr/>
          </p:nvPicPr>
          <p:blipFill>
            <a:blip r:embed="rId8"/>
            <a:stretch/>
          </p:blipFill>
          <p:spPr>
            <a:xfrm>
              <a:off x="4559400" y="5224320"/>
              <a:ext cx="181764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664160" y="5262480"/>
              <a:ext cx="15872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ead of Business Planning and Perform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Box 3"/>
          <p:cNvSpPr/>
          <p:nvPr/>
        </p:nvSpPr>
        <p:spPr>
          <a:xfrm>
            <a:off x="2752560" y="434880"/>
            <a:ext cx="32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tion Policy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0:59:08Z</dcterms:created>
  <dc:creator>Authorised User</dc:creator>
  <dc:description/>
  <dc:language>en-US</dc:language>
  <cp:lastModifiedBy>Authorised User</cp:lastModifiedBy>
  <dcterms:modified xsi:type="dcterms:W3CDTF">2012-03-13T08:42:25Z</dcterms:modified>
  <cp:revision>5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> </vt:lpwstr>
  </property>
  <property fmtid="{D5CDD505-2E9C-101B-9397-08002B2CF9AE}" pid="3" name="Objective-Classification">
    <vt:lpwstr>[Inherited - none]</vt:lpwstr>
  </property>
  <property fmtid="{D5CDD505-2E9C-101B-9397-08002B2CF9AE}" pid="4" name="Objective-Comment">
    <vt:lpwstr> </vt:lpwstr>
  </property>
  <property fmtid="{D5CDD505-2E9C-101B-9397-08002B2CF9AE}" pid="5" name="Objective-CreationStamp">
    <vt:filetime>2010-06-11T15:16:24Z</vt:filetime>
  </property>
  <property fmtid="{D5CDD505-2E9C-101B-9397-08002B2CF9AE}" pid="6" name="Objective-Creators Organisation [system]">
    <vt:lpwstr>The National Archives</vt:lpwstr>
  </property>
  <property fmtid="{D5CDD505-2E9C-101B-9397-08002B2CF9AE}" pid="7" name="Objective-DatePublished">
    <vt:filetime>2010-06-11T15:17:05Z</vt:filetime>
  </property>
  <property fmtid="{D5CDD505-2E9C-101B-9397-08002B2CF9AE}" pid="8" name="Objective-Disclosable under FOI [system]">
    <vt:lpwstr>Not specified</vt:lpwstr>
  </property>
  <property fmtid="{D5CDD505-2E9C-101B-9397-08002B2CF9AE}" pid="9" name="Objective-Disclosed to the data subject [system]">
    <vt:lpwstr>No</vt:lpwstr>
  </property>
  <property fmtid="{D5CDD505-2E9C-101B-9397-08002B2CF9AE}" pid="10" name="Objective-FOI exemptions [system]">
    <vt:lpwstr> </vt:lpwstr>
  </property>
  <property fmtid="{D5CDD505-2E9C-101B-9397-08002B2CF9AE}" pid="11" name="Objective-FileNumber">
    <vt:lpwstr> </vt:lpwstr>
  </property>
  <property fmtid="{D5CDD505-2E9C-101B-9397-08002B2CF9AE}" pid="12" name="Objective-Id">
    <vt:lpwstr>A2210509</vt:lpwstr>
  </property>
  <property fmtid="{D5CDD505-2E9C-101B-9397-08002B2CF9AE}" pid="13" name="Objective-If Yes identify reference [system]">
    <vt:lpwstr> </vt:lpwstr>
  </property>
  <property fmtid="{D5CDD505-2E9C-101B-9397-08002B2CF9AE}" pid="14" name="Objective-Intranet Content [system]">
    <vt:lpwstr>False</vt:lpwstr>
  </property>
  <property fmtid="{D5CDD505-2E9C-101B-9397-08002B2CF9AE}" pid="15" name="Objective-IsApproved">
    <vt:bool>0</vt:bool>
  </property>
  <property fmtid="{D5CDD505-2E9C-101B-9397-08002B2CF9AE}" pid="16" name="Objective-IsPublished">
    <vt:bool>1</vt:bool>
  </property>
  <property fmtid="{D5CDD505-2E9C-101B-9397-08002B2CF9AE}" pid="17" name="Objective-ModificationStamp">
    <vt:filetime>2010-06-11T15:17:06Z</vt:filetime>
  </property>
  <property fmtid="{D5CDD505-2E9C-101B-9397-08002B2CF9AE}" pid="18" name="Objective-Owner">
    <vt:lpwstr>Jacqui Bailie</vt:lpwstr>
  </property>
  <property fmtid="{D5CDD505-2E9C-101B-9397-08002B2CF9AE}" pid="19" name="Objective-Parent">
    <vt:lpwstr>HoDs org charts</vt:lpwstr>
  </property>
  <property fmtid="{D5CDD505-2E9C-101B-9397-08002B2CF9AE}" pid="20" name="Objective-Path">
    <vt:lpwstr>File Plan:Human Resources:Reports:Staff in Post:HoDs org charts:</vt:lpwstr>
  </property>
  <property fmtid="{D5CDD505-2E9C-101B-9397-08002B2CF9AE}" pid="21" name="Objective-Protective Marking [system]">
    <vt:lpwstr>UNCLASSIFIED</vt:lpwstr>
  </property>
  <property fmtid="{D5CDD505-2E9C-101B-9397-08002B2CF9AE}" pid="22" name="Objective-Sensitive personal data [system]">
    <vt:lpwstr>No</vt:lpwstr>
  </property>
  <property fmtid="{D5CDD505-2E9C-101B-9397-08002B2CF9AE}" pid="23" name="Objective-State">
    <vt:lpwstr>Published</vt:lpwstr>
  </property>
  <property fmtid="{D5CDD505-2E9C-101B-9397-08002B2CF9AE}" pid="24" name="Objective-TNA Department [system]">
    <vt:lpwstr>Human Resources and Organisational Development</vt:lpwstr>
  </property>
  <property fmtid="{D5CDD505-2E9C-101B-9397-08002B2CF9AE}" pid="25" name="Objective-Title">
    <vt:lpwstr>HoDs Org Chart June 2010</vt:lpwstr>
  </property>
  <property fmtid="{D5CDD505-2E9C-101B-9397-08002B2CF9AE}" pid="26" name="Objective-Version">
    <vt:lpwstr>1.0</vt:lpwstr>
  </property>
  <property fmtid="{D5CDD505-2E9C-101B-9397-08002B2CF9AE}" pid="27" name="Objective-VersionComment">
    <vt:lpwstr>Version 2</vt:lpwstr>
  </property>
  <property fmtid="{D5CDD505-2E9C-101B-9397-08002B2CF9AE}" pid="28" name="Objective-VersionNumber">
    <vt:r8>2</vt:r8>
  </property>
</Properties>
</file>